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FEE-49ED-46C3-A062-7395F0BC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A6B-A5A4-43D9-84B7-36A695A3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CF5-ACBA-44B2-82CB-D8CFCABD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0B1-A060-450E-A81B-FFA675EF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8C3-C539-4C4D-9587-A6634494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865-266E-41BD-A2A3-9F3271C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934-7B0B-4301-A5AA-0F5312E6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5E3-9A2D-4614-A4A5-12889B2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D31-7065-4A0B-BEB0-B5D0797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B79-0C4C-45AC-8627-3C990DD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792-A7F1-4CCC-BE5E-6C493A2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F4E-E207-47EA-824E-3A22C8B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CC5-4F5B-47FD-B4B7-ECBEFBC5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202280"/>
            <a:ext cx="3753000" cy="2655720"/>
            <a:chOff x="0" y="4202280"/>
            <a:chExt cx="3753000" cy="2655720"/>
          </a:xfrm>
        </p:grpSpPr>
        <p:sp>
          <p:nvSpPr>
            <p:cNvPr id="42" name=""/>
            <p:cNvSpPr/>
            <p:nvPr/>
          </p:nvSpPr>
          <p:spPr>
            <a:xfrm>
              <a:off x="0" y="4202280"/>
              <a:ext cx="3753000" cy="265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10000" y="45338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47800" y="6058080"/>
              <a:ext cx="65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6240" y="5497560"/>
              <a:ext cx="13320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1280" y="5554800"/>
              <a:ext cx="80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" name=""/>
            <p:cNvCxnSpPr>
              <a:stCxn id="45" idx="3"/>
              <a:endCxn id="48" idx="1"/>
            </p:cNvCxnSpPr>
            <p:nvPr/>
          </p:nvCxnSpPr>
          <p:spPr>
            <a:xfrm flipV="1">
              <a:off x="1279440" y="4786920"/>
              <a:ext cx="464040" cy="763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743120" y="6256440"/>
              <a:ext cx="1332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5" idx="3"/>
              <a:endCxn id="49" idx="1"/>
            </p:cNvCxnSpPr>
            <p:nvPr/>
          </p:nvCxnSpPr>
          <p:spPr>
            <a:xfrm>
              <a:off x="1279440" y="5549760"/>
              <a:ext cx="464040" cy="76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" name=""/>
            <p:cNvSpPr/>
            <p:nvPr/>
          </p:nvSpPr>
          <p:spPr>
            <a:xfrm>
              <a:off x="1743120" y="4729320"/>
              <a:ext cx="1317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48" idx="1"/>
              <a:endCxn id="52" idx="1"/>
            </p:cNvCxnSpPr>
            <p:nvPr/>
          </p:nvCxnSpPr>
          <p:spPr>
            <a:xfrm>
              <a:off x="1743120" y="4786920"/>
              <a:ext cx="14799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2863800" y="6245280"/>
              <a:ext cx="133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49" idx="1"/>
              <a:endCxn id="55" idx="1"/>
            </p:cNvCxnSpPr>
            <p:nvPr/>
          </p:nvCxnSpPr>
          <p:spPr>
            <a:xfrm>
              <a:off x="1743120" y="6314400"/>
              <a:ext cx="144000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" name=""/>
            <p:cNvSpPr/>
            <p:nvPr/>
          </p:nvSpPr>
          <p:spPr>
            <a:xfrm>
              <a:off x="1725480" y="5040360"/>
              <a:ext cx="183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06400" y="5892840"/>
              <a:ext cx="183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2760" y="6257880"/>
              <a:ext cx="13356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720" y="4730760"/>
              <a:ext cx="1332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209680" y="1859040"/>
            <a:ext cx="4924440" cy="3240000"/>
            <a:chOff x="2209680" y="1859040"/>
            <a:chExt cx="4924440" cy="3240000"/>
          </a:xfrm>
        </p:grpSpPr>
        <p:sp>
          <p:nvSpPr>
            <p:cNvPr id="339" name=""/>
            <p:cNvSpPr/>
            <p:nvPr/>
          </p:nvSpPr>
          <p:spPr>
            <a:xfrm>
              <a:off x="2209680" y="1859040"/>
              <a:ext cx="492444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8800" y="32432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97560" y="30052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97560" y="34797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57640" y="34290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8320" y="279396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7" name=""/>
            <p:cNvCxnSpPr>
              <a:stCxn id="344" idx="3"/>
              <a:endCxn id="348" idx="1"/>
            </p:cNvCxnSpPr>
            <p:nvPr/>
          </p:nvCxnSpPr>
          <p:spPr>
            <a:xfrm flipV="1">
              <a:off x="3332160" y="2848680"/>
              <a:ext cx="210240" cy="6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49" name=""/>
            <p:cNvSpPr/>
            <p:nvPr/>
          </p:nvSpPr>
          <p:spPr>
            <a:xfrm>
              <a:off x="353700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0" name=""/>
            <p:cNvCxnSpPr>
              <a:stCxn id="344" idx="3"/>
              <a:endCxn id="349" idx="1"/>
            </p:cNvCxnSpPr>
            <p:nvPr/>
          </p:nvCxnSpPr>
          <p:spPr>
            <a:xfrm>
              <a:off x="3331800" y="3471480"/>
              <a:ext cx="20556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48" name=""/>
            <p:cNvSpPr/>
            <p:nvPr/>
          </p:nvSpPr>
          <p:spPr>
            <a:xfrm>
              <a:off x="3541680" y="280188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48" idx="1"/>
              <a:endCxn id="346" idx="2"/>
            </p:cNvCxnSpPr>
            <p:nvPr/>
          </p:nvCxnSpPr>
          <p:spPr>
            <a:xfrm flipV="1">
              <a:off x="3541680" y="2847600"/>
              <a:ext cx="5673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2" name=""/>
            <p:cNvCxnSpPr>
              <a:stCxn id="349" idx="1"/>
              <a:endCxn id="340" idx="1"/>
            </p:cNvCxnSpPr>
            <p:nvPr/>
          </p:nvCxnSpPr>
          <p:spPr>
            <a:xfrm flipV="1">
              <a:off x="3537000" y="4075920"/>
              <a:ext cx="68184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>
              <a:stCxn id="346" idx="7"/>
              <a:endCxn id="354" idx="1"/>
            </p:cNvCxnSpPr>
            <p:nvPr/>
          </p:nvCxnSpPr>
          <p:spPr>
            <a:xfrm flipV="1">
              <a:off x="4199040" y="2412720"/>
              <a:ext cx="240480" cy="39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5" name=""/>
            <p:cNvCxnSpPr>
              <a:stCxn id="346" idx="5"/>
              <a:endCxn id="341" idx="1"/>
            </p:cNvCxnSpPr>
            <p:nvPr/>
          </p:nvCxnSpPr>
          <p:spPr>
            <a:xfrm>
              <a:off x="4199040" y="2886120"/>
              <a:ext cx="240480" cy="40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6" name=""/>
            <p:cNvCxnSpPr>
              <a:stCxn id="341" idx="1"/>
              <a:endCxn id="357" idx="2"/>
            </p:cNvCxnSpPr>
            <p:nvPr/>
          </p:nvCxnSpPr>
          <p:spPr>
            <a:xfrm>
              <a:off x="4438440" y="3290400"/>
              <a:ext cx="764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8" name=""/>
            <p:cNvCxnSpPr>
              <a:stCxn id="357" idx="7"/>
              <a:endCxn id="342" idx="1"/>
            </p:cNvCxnSpPr>
            <p:nvPr/>
          </p:nvCxnSpPr>
          <p:spPr>
            <a:xfrm flipV="1">
              <a:off x="5293800" y="3052440"/>
              <a:ext cx="204120" cy="20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9" name=""/>
            <p:cNvCxnSpPr>
              <a:stCxn id="357" idx="5"/>
              <a:endCxn id="343" idx="1"/>
            </p:cNvCxnSpPr>
            <p:nvPr/>
          </p:nvCxnSpPr>
          <p:spPr>
            <a:xfrm>
              <a:off x="5293800" y="3328560"/>
              <a:ext cx="204120" cy="199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0" name=""/>
            <p:cNvCxnSpPr>
              <a:stCxn id="342" idx="1"/>
              <a:endCxn id="361" idx="0"/>
            </p:cNvCxnSpPr>
            <p:nvPr/>
          </p:nvCxnSpPr>
          <p:spPr>
            <a:xfrm flipV="1">
              <a:off x="5497200" y="3050280"/>
              <a:ext cx="10832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43" idx="1"/>
              <a:endCxn id="363" idx="0"/>
            </p:cNvCxnSpPr>
            <p:nvPr/>
          </p:nvCxnSpPr>
          <p:spPr>
            <a:xfrm>
              <a:off x="5497200" y="3526920"/>
              <a:ext cx="10832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 rot="16200000">
              <a:off x="6566400" y="300744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6566760" y="348516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2360" y="32367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9440" y="2932200"/>
              <a:ext cx="102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49440" y="3760920"/>
              <a:ext cx="102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0920" y="262584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.5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24400" y="38336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9960" y="4508640"/>
              <a:ext cx="24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7024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5456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3732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8680" y="3056040"/>
              <a:ext cx="80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99160" y="330048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9160" y="2830680"/>
              <a:ext cx="10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06800" y="461952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0480" y="4616280"/>
              <a:ext cx="3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96200" y="461628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8680" y="328284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99160" y="349560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9160" y="301320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72320" y="293544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65840" y="3413160"/>
              <a:ext cx="20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0120" y="31669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41520" y="335448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9040" y="273204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8800" y="236520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54" idx="1"/>
              <a:endCxn id="387" idx="2"/>
            </p:cNvCxnSpPr>
            <p:nvPr/>
          </p:nvCxnSpPr>
          <p:spPr>
            <a:xfrm>
              <a:off x="4438440" y="2413080"/>
              <a:ext cx="7592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88" name=""/>
            <p:cNvSpPr/>
            <p:nvPr/>
          </p:nvSpPr>
          <p:spPr>
            <a:xfrm>
              <a:off x="5497560" y="21193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7560" y="26114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97320" y="2360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7" idx="7"/>
              <a:endCxn id="388" idx="1"/>
            </p:cNvCxnSpPr>
            <p:nvPr/>
          </p:nvCxnSpPr>
          <p:spPr>
            <a:xfrm flipV="1">
              <a:off x="5288040" y="2166480"/>
              <a:ext cx="210240" cy="210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1" name=""/>
            <p:cNvCxnSpPr>
              <a:stCxn id="387" idx="5"/>
              <a:endCxn id="389" idx="1"/>
            </p:cNvCxnSpPr>
            <p:nvPr/>
          </p:nvCxnSpPr>
          <p:spPr>
            <a:xfrm>
              <a:off x="5288040" y="2452320"/>
              <a:ext cx="210240" cy="207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2" name=""/>
            <p:cNvCxnSpPr>
              <a:stCxn id="388" idx="1"/>
              <a:endCxn id="393" idx="0"/>
            </p:cNvCxnSpPr>
            <p:nvPr/>
          </p:nvCxnSpPr>
          <p:spPr>
            <a:xfrm flipV="1">
              <a:off x="5497200" y="2162880"/>
              <a:ext cx="108324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4" name=""/>
            <p:cNvCxnSpPr>
              <a:stCxn id="389" idx="1"/>
              <a:endCxn id="395" idx="0"/>
            </p:cNvCxnSpPr>
            <p:nvPr/>
          </p:nvCxnSpPr>
          <p:spPr>
            <a:xfrm>
              <a:off x="5497200" y="2658600"/>
              <a:ext cx="1083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93" name=""/>
            <p:cNvSpPr/>
            <p:nvPr/>
          </p:nvSpPr>
          <p:spPr>
            <a:xfrm rot="16200000">
              <a:off x="6566400" y="212004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6566400" y="261540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8680" y="2185920"/>
              <a:ext cx="9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99160" y="19382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99160" y="2427120"/>
              <a:ext cx="101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68680" y="240336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99160" y="261612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9160" y="212400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65840" y="205272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5840" y="2541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7400" y="22939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043520" y="2682720"/>
            <a:ext cx="4419360" cy="14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78400" y="3386160"/>
            <a:ext cx="8244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0040" y="342756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6" idx="3"/>
            <a:endCxn id="409" idx="1"/>
          </p:cNvCxnSpPr>
          <p:nvPr/>
        </p:nvCxnSpPr>
        <p:spPr>
          <a:xfrm flipV="1">
            <a:off x="4560480" y="3184200"/>
            <a:ext cx="144720" cy="24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4714920" y="3632040"/>
            <a:ext cx="7452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6" idx="3"/>
            <a:endCxn id="410" idx="1"/>
          </p:cNvCxnSpPr>
          <p:nvPr/>
        </p:nvCxnSpPr>
        <p:spPr>
          <a:xfrm>
            <a:off x="4560840" y="3428640"/>
            <a:ext cx="154800" cy="25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4705200" y="31370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9" idx="1"/>
            <a:endCxn id="413" idx="1"/>
          </p:cNvCxnSpPr>
          <p:nvPr/>
        </p:nvCxnSpPr>
        <p:spPr>
          <a:xfrm>
            <a:off x="4705200" y="3184200"/>
            <a:ext cx="47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10" idx="1"/>
            <a:endCxn id="415" idx="2"/>
          </p:cNvCxnSpPr>
          <p:nvPr/>
        </p:nvCxnSpPr>
        <p:spPr>
          <a:xfrm>
            <a:off x="4714560" y="3679560"/>
            <a:ext cx="446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5122800" y="35863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75360" y="313704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343368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8" idx="6"/>
            <a:endCxn id="419" idx="1"/>
          </p:cNvCxnSpPr>
          <p:nvPr/>
        </p:nvCxnSpPr>
        <p:spPr>
          <a:xfrm flipV="1">
            <a:off x="7597440" y="3115800"/>
            <a:ext cx="16884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7761240" y="368460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8" idx="6"/>
            <a:endCxn id="420" idx="1"/>
          </p:cNvCxnSpPr>
          <p:nvPr/>
        </p:nvCxnSpPr>
        <p:spPr>
          <a:xfrm>
            <a:off x="7597800" y="3431880"/>
            <a:ext cx="164160" cy="30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7765920" y="30686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19" idx="1"/>
            <a:endCxn id="423" idx="1"/>
          </p:cNvCxnSpPr>
          <p:nvPr/>
        </p:nvCxnSpPr>
        <p:spPr>
          <a:xfrm>
            <a:off x="7765560" y="3115800"/>
            <a:ext cx="30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20" idx="1"/>
            <a:endCxn id="425" idx="1"/>
          </p:cNvCxnSpPr>
          <p:nvPr/>
        </p:nvCxnSpPr>
        <p:spPr>
          <a:xfrm flipV="1">
            <a:off x="7761240" y="3730320"/>
            <a:ext cx="308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8069400" y="3683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69400" y="30718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8" idx="6"/>
            <a:endCxn id="427" idx="1"/>
          </p:cNvCxnSpPr>
          <p:nvPr/>
        </p:nvCxnSpPr>
        <p:spPr>
          <a:xfrm>
            <a:off x="7597800" y="3432240"/>
            <a:ext cx="4723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8069400" y="3386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89800" y="3378240"/>
            <a:ext cx="108000" cy="1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50200" y="338940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51480" y="343044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3"/>
            <a:endCxn id="431" idx="1"/>
          </p:cNvCxnSpPr>
          <p:nvPr/>
        </p:nvCxnSpPr>
        <p:spPr>
          <a:xfrm flipV="1">
            <a:off x="6632280" y="3187440"/>
            <a:ext cx="144720" cy="24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6786720" y="36352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3"/>
            <a:endCxn id="432" idx="1"/>
          </p:cNvCxnSpPr>
          <p:nvPr/>
        </p:nvCxnSpPr>
        <p:spPr>
          <a:xfrm>
            <a:off x="6632640" y="3431880"/>
            <a:ext cx="154800" cy="25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6777000" y="3139920"/>
            <a:ext cx="73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1" idx="1"/>
            <a:endCxn id="435" idx="1"/>
          </p:cNvCxnSpPr>
          <p:nvPr/>
        </p:nvCxnSpPr>
        <p:spPr>
          <a:xfrm>
            <a:off x="6776640" y="3187440"/>
            <a:ext cx="470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2" idx="1"/>
            <a:endCxn id="437" idx="2"/>
          </p:cNvCxnSpPr>
          <p:nvPr/>
        </p:nvCxnSpPr>
        <p:spPr>
          <a:xfrm>
            <a:off x="6786360" y="3682800"/>
            <a:ext cx="446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7194600" y="3589200"/>
            <a:ext cx="7452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46800" y="3139920"/>
            <a:ext cx="748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8120" y="343368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40" idx="6"/>
            <a:endCxn id="441" idx="1"/>
          </p:cNvCxnSpPr>
          <p:nvPr/>
        </p:nvCxnSpPr>
        <p:spPr>
          <a:xfrm flipV="1">
            <a:off x="5692680" y="3115800"/>
            <a:ext cx="1692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5856120" y="368460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6"/>
            <a:endCxn id="442" idx="1"/>
          </p:cNvCxnSpPr>
          <p:nvPr/>
        </p:nvCxnSpPr>
        <p:spPr>
          <a:xfrm>
            <a:off x="5692680" y="3431880"/>
            <a:ext cx="164160" cy="30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861160" y="30686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1"/>
            <a:endCxn id="445" idx="1"/>
          </p:cNvCxnSpPr>
          <p:nvPr/>
        </p:nvCxnSpPr>
        <p:spPr>
          <a:xfrm>
            <a:off x="5861160" y="3115800"/>
            <a:ext cx="3038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1"/>
            <a:endCxn id="447" idx="1"/>
          </p:cNvCxnSpPr>
          <p:nvPr/>
        </p:nvCxnSpPr>
        <p:spPr>
          <a:xfrm flipV="1">
            <a:off x="5856120" y="3730320"/>
            <a:ext cx="308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6164280" y="3683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64280" y="30718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0" idx="6"/>
            <a:endCxn id="449" idx="1"/>
          </p:cNvCxnSpPr>
          <p:nvPr/>
        </p:nvCxnSpPr>
        <p:spPr>
          <a:xfrm>
            <a:off x="5692680" y="3432240"/>
            <a:ext cx="4723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164280" y="3386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4680" y="3378240"/>
            <a:ext cx="108000" cy="1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438800" y="5572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71520" y="1174680"/>
            <a:ext cx="6958080" cy="3465720"/>
            <a:chOff x="1271520" y="1174680"/>
            <a:chExt cx="6958080" cy="3465720"/>
          </a:xfrm>
        </p:grpSpPr>
        <p:sp>
          <p:nvSpPr>
            <p:cNvPr id="452" name=""/>
            <p:cNvSpPr/>
            <p:nvPr/>
          </p:nvSpPr>
          <p:spPr>
            <a:xfrm>
              <a:off x="1271520" y="1174680"/>
              <a:ext cx="6958080" cy="346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48120" y="3743280"/>
              <a:ext cx="261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0" y="2658960"/>
              <a:ext cx="28591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cess ro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cessing loc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ng and processing capacit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19280" y="1371600"/>
              <a:ext cx="3009960" cy="2927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7400" y="3421080"/>
              <a:ext cx="212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5760" y="2543040"/>
              <a:ext cx="11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24160" y="20541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24160" y="2932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24160" y="38116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2000" y="1566720"/>
              <a:ext cx="326052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ount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WACC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V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the mea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wen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yea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fe of proje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facility cannot use roast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06880" y="18144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06880" y="2719440"/>
              <a:ext cx="585720" cy="560160"/>
            </a:xfrm>
            <a:prstGeom prst="rightArrow">
              <a:avLst>
                <a:gd name="adj1" fmla="val 50139"/>
                <a:gd name="adj2" fmla="val 4789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06880" y="35766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1812960" y="1306440"/>
            <a:ext cx="5043600" cy="3635280"/>
            <a:chOff x="1812960" y="1306440"/>
            <a:chExt cx="5043600" cy="3635280"/>
          </a:xfrm>
        </p:grpSpPr>
        <p:sp>
          <p:nvSpPr>
            <p:cNvPr id="466" name=""/>
            <p:cNvSpPr/>
            <p:nvPr/>
          </p:nvSpPr>
          <p:spPr>
            <a:xfrm>
              <a:off x="1812960" y="1306440"/>
              <a:ext cx="5043600" cy="36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8600" y="2751120"/>
              <a:ext cx="387360" cy="2271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0960" y="2770200"/>
              <a:ext cx="422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70" idx="2"/>
              <a:endCxn id="471" idx="0"/>
            </p:cNvCxnSpPr>
            <p:nvPr/>
          </p:nvCxnSpPr>
          <p:spPr>
            <a:xfrm flipH="1">
              <a:off x="4947840" y="2604960"/>
              <a:ext cx="86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2" name=""/>
            <p:cNvCxnSpPr>
              <a:stCxn id="473" idx="0"/>
              <a:endCxn id="474" idx="2"/>
            </p:cNvCxnSpPr>
            <p:nvPr/>
          </p:nvCxnSpPr>
          <p:spPr>
            <a:xfrm flipH="1" flipV="1" rot="5400000">
              <a:off x="3151800" y="3321720"/>
              <a:ext cx="340200" cy="586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5" name=""/>
            <p:cNvCxnSpPr>
              <a:stCxn id="470" idx="1"/>
              <a:endCxn id="476" idx="0"/>
            </p:cNvCxnSpPr>
            <p:nvPr/>
          </p:nvCxnSpPr>
          <p:spPr>
            <a:xfrm flipV="1" rot="10800000">
              <a:off x="4453920" y="2506320"/>
              <a:ext cx="211680" cy="851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7" name=""/>
            <p:cNvCxnSpPr>
              <a:stCxn id="467" idx="2"/>
              <a:endCxn id="476" idx="0"/>
            </p:cNvCxnSpPr>
            <p:nvPr/>
          </p:nvCxnSpPr>
          <p:spPr>
            <a:xfrm flipH="1" rot="16200000">
              <a:off x="4137840" y="3041640"/>
              <a:ext cx="380160" cy="253080"/>
            </a:xfrm>
            <a:prstGeom prst="curvedConnector5">
              <a:avLst>
                <a:gd name="adj1" fmla="val 49763"/>
                <a:gd name="adj2" fmla="val 50000"/>
                <a:gd name="adj3" fmla="val 4976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8" name=""/>
            <p:cNvCxnSpPr>
              <a:stCxn id="479" idx="2"/>
              <a:endCxn id="470" idx="3"/>
            </p:cNvCxnSpPr>
            <p:nvPr/>
          </p:nvCxnSpPr>
          <p:spPr>
            <a:xfrm rot="5400000">
              <a:off x="5267520" y="2211840"/>
              <a:ext cx="27396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0" name=""/>
            <p:cNvCxnSpPr>
              <a:stCxn id="481" idx="4"/>
              <a:endCxn id="471" idx="3"/>
            </p:cNvCxnSpPr>
            <p:nvPr/>
          </p:nvCxnSpPr>
          <p:spPr>
            <a:xfrm rot="5400000">
              <a:off x="5319000" y="2774520"/>
              <a:ext cx="106920" cy="453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2" name=""/>
            <p:cNvCxnSpPr>
              <a:stCxn id="483" idx="6"/>
              <a:endCxn id="484" idx="1"/>
            </p:cNvCxnSpPr>
            <p:nvPr/>
          </p:nvCxnSpPr>
          <p:spPr>
            <a:xfrm>
              <a:off x="3548160" y="2333520"/>
              <a:ext cx="181440" cy="78480"/>
            </a:xfrm>
            <a:prstGeom prst="curvedConnector5">
              <a:avLst>
                <a:gd name="adj1" fmla="val 49900"/>
                <a:gd name="adj2" fmla="val 49769"/>
                <a:gd name="adj3" fmla="val 499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5" name=""/>
            <p:cNvCxnSpPr>
              <a:stCxn id="486" idx="3"/>
              <a:endCxn id="487" idx="1"/>
            </p:cNvCxnSpPr>
            <p:nvPr/>
          </p:nvCxnSpPr>
          <p:spPr>
            <a:xfrm>
              <a:off x="3990960" y="3336480"/>
              <a:ext cx="178200" cy="5706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8" name=""/>
            <p:cNvCxnSpPr>
              <a:stCxn id="486" idx="3"/>
              <a:endCxn id="471" idx="1"/>
            </p:cNvCxnSpPr>
            <p:nvPr/>
          </p:nvCxnSpPr>
          <p:spPr>
            <a:xfrm flipV="1">
              <a:off x="3990600" y="3053520"/>
              <a:ext cx="757800" cy="283320"/>
            </a:xfrm>
            <a:prstGeom prst="curvedConnector5">
              <a:avLst>
                <a:gd name="adj1" fmla="val 49857"/>
                <a:gd name="adj2" fmla="val 50000"/>
                <a:gd name="adj3" fmla="val 49857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9" name=""/>
            <p:cNvCxnSpPr>
              <a:stCxn id="487" idx="3"/>
              <a:endCxn id="490" idx="1"/>
            </p:cNvCxnSpPr>
            <p:nvPr/>
          </p:nvCxnSpPr>
          <p:spPr>
            <a:xfrm flipV="1">
              <a:off x="4843080" y="3777480"/>
              <a:ext cx="306720" cy="129240"/>
            </a:xfrm>
            <a:prstGeom prst="curvedConnector5">
              <a:avLst>
                <a:gd name="adj1" fmla="val 49706"/>
                <a:gd name="adj2" fmla="val 50000"/>
                <a:gd name="adj3" fmla="val 4970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91" name=""/>
            <p:cNvSpPr/>
            <p:nvPr/>
          </p:nvSpPr>
          <p:spPr>
            <a:xfrm>
              <a:off x="5365800" y="2027160"/>
              <a:ext cx="392040" cy="2174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56080" y="2035080"/>
              <a:ext cx="4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93" idx="3"/>
              <a:endCxn id="494" idx="1"/>
            </p:cNvCxnSpPr>
            <p:nvPr/>
          </p:nvCxnSpPr>
          <p:spPr>
            <a:xfrm flipV="1">
              <a:off x="3583080" y="1994760"/>
              <a:ext cx="853200" cy="338760"/>
            </a:xfrm>
            <a:prstGeom prst="curvedConnector5">
              <a:avLst>
                <a:gd name="adj1" fmla="val 19333"/>
                <a:gd name="adj2" fmla="val 50000"/>
                <a:gd name="adj3" fmla="val 1933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95" name=""/>
            <p:cNvSpPr/>
            <p:nvPr/>
          </p:nvSpPr>
          <p:spPr>
            <a:xfrm>
              <a:off x="2774880" y="3776760"/>
              <a:ext cx="50652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57600" y="3784680"/>
              <a:ext cx="542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238560" y="3218040"/>
              <a:ext cx="752400" cy="226800"/>
              <a:chOff x="3238560" y="3218040"/>
              <a:chExt cx="752400" cy="226800"/>
            </a:xfrm>
          </p:grpSpPr>
          <p:sp>
            <p:nvSpPr>
              <p:cNvPr id="474" name=""/>
              <p:cNvSpPr/>
              <p:nvPr/>
            </p:nvSpPr>
            <p:spPr>
              <a:xfrm>
                <a:off x="3268440" y="3218040"/>
                <a:ext cx="69228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8560" y="3236760"/>
                <a:ext cx="752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748040" y="2935440"/>
              <a:ext cx="398160" cy="226800"/>
              <a:chOff x="4748040" y="2935440"/>
              <a:chExt cx="398160" cy="226800"/>
            </a:xfrm>
          </p:grpSpPr>
          <p:sp>
            <p:nvSpPr>
              <p:cNvPr id="498" name=""/>
              <p:cNvSpPr/>
              <p:nvPr/>
            </p:nvSpPr>
            <p:spPr>
              <a:xfrm>
                <a:off x="4763880" y="2935440"/>
                <a:ext cx="36504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48040" y="2954520"/>
                <a:ext cx="398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4238640" y="3336840"/>
              <a:ext cx="44784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00480" y="3357720"/>
              <a:ext cx="50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o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49800" y="3659040"/>
              <a:ext cx="77472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368316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" name=""/>
            <p:cNvCxnSpPr>
              <a:stCxn id="495" idx="2"/>
              <a:endCxn id="490" idx="2"/>
            </p:cNvCxnSpPr>
            <p:nvPr/>
          </p:nvCxnSpPr>
          <p:spPr>
            <a:xfrm flipH="1" flipV="1" rot="5400000">
              <a:off x="4234320" y="2690280"/>
              <a:ext cx="95760" cy="2508840"/>
            </a:xfrm>
            <a:prstGeom prst="curvedConnector5">
              <a:avLst>
                <a:gd name="adj1" fmla="val -240000"/>
                <a:gd name="adj2" fmla="val 50000"/>
                <a:gd name="adj3" fmla="val -24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2" name=""/>
            <p:cNvCxnSpPr>
              <a:stCxn id="490" idx="3"/>
              <a:endCxn id="503" idx="1"/>
            </p:cNvCxnSpPr>
            <p:nvPr/>
          </p:nvCxnSpPr>
          <p:spPr>
            <a:xfrm>
              <a:off x="5924160" y="3777840"/>
              <a:ext cx="273960" cy="1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4" name=""/>
            <p:cNvSpPr/>
            <p:nvPr/>
          </p:nvSpPr>
          <p:spPr>
            <a:xfrm>
              <a:off x="4195800" y="3787920"/>
              <a:ext cx="61920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8800" y="38070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499" idx="2"/>
              <a:endCxn id="504" idx="0"/>
            </p:cNvCxnSpPr>
            <p:nvPr/>
          </p:nvCxnSpPr>
          <p:spPr>
            <a:xfrm flipH="1" rot="16200000">
              <a:off x="4376520" y="3659760"/>
              <a:ext cx="213480" cy="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6" name=""/>
            <p:cNvCxnSpPr>
              <a:stCxn id="498" idx="2"/>
              <a:endCxn id="476" idx="3"/>
            </p:cNvCxnSpPr>
            <p:nvPr/>
          </p:nvCxnSpPr>
          <p:spPr>
            <a:xfrm rot="5400000">
              <a:off x="4678920" y="3189960"/>
              <a:ext cx="295560" cy="2404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7" name=""/>
            <p:cNvSpPr/>
            <p:nvPr/>
          </p:nvSpPr>
          <p:spPr>
            <a:xfrm>
              <a:off x="4645080" y="2387520"/>
              <a:ext cx="611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65600" y="2406600"/>
              <a:ext cx="581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76960" y="2743200"/>
              <a:ext cx="44280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43480" y="2747880"/>
              <a:ext cx="573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73440" y="1881360"/>
              <a:ext cx="94464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51120" y="1903320"/>
              <a:ext cx="995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riable Unit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7960" y="2681280"/>
              <a:ext cx="67608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02120" y="2689200"/>
              <a:ext cx="71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3" name=""/>
            <p:cNvCxnSpPr>
              <a:stCxn id="512" idx="3"/>
              <a:endCxn id="468" idx="1"/>
            </p:cNvCxnSpPr>
            <p:nvPr/>
          </p:nvCxnSpPr>
          <p:spPr>
            <a:xfrm>
              <a:off x="3814560" y="2788920"/>
              <a:ext cx="176760" cy="81360"/>
            </a:xfrm>
            <a:prstGeom prst="curvedConnector5">
              <a:avLst>
                <a:gd name="adj1" fmla="val 49387"/>
                <a:gd name="adj2" fmla="val 49777"/>
                <a:gd name="adj3" fmla="val 49387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4" name=""/>
            <p:cNvCxnSpPr>
              <a:stCxn id="484" idx="2"/>
              <a:endCxn id="467" idx="0"/>
            </p:cNvCxnSpPr>
            <p:nvPr/>
          </p:nvCxnSpPr>
          <p:spPr>
            <a:xfrm flipH="1" rot="16200000">
              <a:off x="4047840" y="2597760"/>
              <a:ext cx="241920" cy="65520"/>
            </a:xfrm>
            <a:prstGeom prst="curvedConnector5">
              <a:avLst>
                <a:gd name="adj1" fmla="val 49925"/>
                <a:gd name="adj2" fmla="val 49723"/>
                <a:gd name="adj3" fmla="val 49925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5" name=""/>
            <p:cNvSpPr/>
            <p:nvPr/>
          </p:nvSpPr>
          <p:spPr>
            <a:xfrm>
              <a:off x="3755880" y="2278080"/>
              <a:ext cx="746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28880" y="2311560"/>
              <a:ext cx="81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0" idx="3"/>
              <a:endCxn id="515" idx="0"/>
            </p:cNvCxnSpPr>
            <p:nvPr/>
          </p:nvCxnSpPr>
          <p:spPr>
            <a:xfrm>
              <a:off x="3746160" y="2003040"/>
              <a:ext cx="383400" cy="275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7" name=""/>
            <p:cNvSpPr/>
            <p:nvPr/>
          </p:nvSpPr>
          <p:spPr>
            <a:xfrm>
              <a:off x="5778360" y="3156120"/>
              <a:ext cx="68904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15000" y="31608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1880" y="1461960"/>
              <a:ext cx="524160" cy="2318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4600" y="1474920"/>
              <a:ext cx="57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520" idx="3"/>
              <a:endCxn id="494" idx="0"/>
            </p:cNvCxnSpPr>
            <p:nvPr/>
          </p:nvCxnSpPr>
          <p:spPr>
            <a:xfrm>
              <a:off x="4260600" y="1574640"/>
              <a:ext cx="484920" cy="26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2" name=""/>
            <p:cNvSpPr/>
            <p:nvPr/>
          </p:nvSpPr>
          <p:spPr>
            <a:xfrm>
              <a:off x="4905360" y="1447920"/>
              <a:ext cx="523800" cy="26172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06800" y="14302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Gra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"/>
            <p:cNvCxnSpPr>
              <a:stCxn id="523" idx="1"/>
              <a:endCxn id="494" idx="0"/>
            </p:cNvCxnSpPr>
            <p:nvPr/>
          </p:nvCxnSpPr>
          <p:spPr>
            <a:xfrm flipV="1" rot="10800000">
              <a:off x="4744440" y="1582200"/>
              <a:ext cx="162360" cy="261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5" name=""/>
            <p:cNvSpPr/>
            <p:nvPr/>
          </p:nvSpPr>
          <p:spPr>
            <a:xfrm>
              <a:off x="5657760" y="1695600"/>
              <a:ext cx="52380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0760" y="16588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Mark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6" idx="1"/>
              <a:endCxn id="479" idx="0"/>
            </p:cNvCxnSpPr>
            <p:nvPr/>
          </p:nvCxnSpPr>
          <p:spPr>
            <a:xfrm flipV="1" rot="10800000">
              <a:off x="5562000" y="1810800"/>
              <a:ext cx="68760" cy="224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8" name=""/>
            <p:cNvSpPr/>
            <p:nvPr/>
          </p:nvSpPr>
          <p:spPr>
            <a:xfrm>
              <a:off x="4444920" y="1862280"/>
              <a:ext cx="611280" cy="266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5560" y="1842120"/>
              <a:ext cx="61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Produ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494" idx="2"/>
              <a:endCxn id="507" idx="0"/>
            </p:cNvCxnSpPr>
            <p:nvPr/>
          </p:nvCxnSpPr>
          <p:spPr>
            <a:xfrm flipH="1" rot="16200000">
              <a:off x="4727520" y="2164320"/>
              <a:ext cx="240480" cy="207000"/>
            </a:xfrm>
            <a:prstGeom prst="curvedConnector5">
              <a:avLst>
                <a:gd name="adj1" fmla="val 49625"/>
                <a:gd name="adj2" fmla="val 50000"/>
                <a:gd name="adj3" fmla="val 49625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83" name=""/>
            <p:cNvSpPr/>
            <p:nvPr/>
          </p:nvSpPr>
          <p:spPr>
            <a:xfrm>
              <a:off x="2803680" y="2209680"/>
              <a:ext cx="744480" cy="246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44640" y="2233440"/>
              <a:ext cx="83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817720" y="4519440"/>
              <a:ext cx="909360" cy="200520"/>
              <a:chOff x="2817720" y="4519440"/>
              <a:chExt cx="909360" cy="200520"/>
            </a:xfrm>
          </p:grpSpPr>
          <p:sp>
            <p:nvSpPr>
              <p:cNvPr id="531" name=""/>
              <p:cNvSpPr/>
              <p:nvPr/>
            </p:nvSpPr>
            <p:spPr>
              <a:xfrm>
                <a:off x="2817720" y="45432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5100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689280" y="4519440"/>
              <a:ext cx="911160" cy="200520"/>
              <a:chOff x="3689280" y="4519440"/>
              <a:chExt cx="911160" cy="200520"/>
            </a:xfrm>
          </p:grpSpPr>
          <p:sp>
            <p:nvSpPr>
              <p:cNvPr id="534" name=""/>
              <p:cNvSpPr/>
              <p:nvPr/>
            </p:nvSpPr>
            <p:spPr>
              <a:xfrm>
                <a:off x="3689280" y="454176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24000" y="45194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560840" y="4519440"/>
              <a:ext cx="847800" cy="200520"/>
              <a:chOff x="4560840" y="4519440"/>
              <a:chExt cx="847800" cy="200520"/>
            </a:xfrm>
          </p:grpSpPr>
          <p:sp>
            <p:nvSpPr>
              <p:cNvPr id="537" name=""/>
              <p:cNvSpPr/>
              <p:nvPr/>
            </p:nvSpPr>
            <p:spPr>
              <a:xfrm>
                <a:off x="4560840" y="4540320"/>
                <a:ext cx="265320" cy="156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256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370480" y="4529160"/>
              <a:ext cx="825480" cy="200520"/>
              <a:chOff x="5370480" y="4529160"/>
              <a:chExt cx="825480" cy="200520"/>
            </a:xfrm>
          </p:grpSpPr>
          <p:sp>
            <p:nvSpPr>
              <p:cNvPr id="540" name=""/>
              <p:cNvSpPr/>
              <p:nvPr/>
            </p:nvSpPr>
            <p:spPr>
              <a:xfrm>
                <a:off x="5370480" y="45529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19520" y="45291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2" name=""/>
            <p:cNvCxnSpPr>
              <a:stCxn id="517" idx="4"/>
              <a:endCxn id="503" idx="0"/>
            </p:cNvCxnSpPr>
            <p:nvPr/>
          </p:nvCxnSpPr>
          <p:spPr>
            <a:xfrm flipH="1" rot="16200000">
              <a:off x="6086160" y="3395880"/>
              <a:ext cx="321480" cy="25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43" name=""/>
            <p:cNvSpPr/>
            <p:nvPr/>
          </p:nvSpPr>
          <p:spPr>
            <a:xfrm>
              <a:off x="2100240" y="252720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19240" y="2533680"/>
              <a:ext cx="83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82960" y="3322800"/>
              <a:ext cx="68868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25720" y="3325680"/>
              <a:ext cx="838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" name=""/>
            <p:cNvCxnSpPr>
              <a:stCxn id="543" idx="1"/>
              <a:endCxn id="510" idx="1"/>
            </p:cNvCxnSpPr>
            <p:nvPr/>
          </p:nvCxnSpPr>
          <p:spPr>
            <a:xfrm flipH="1" flipV="1" rot="5400000">
              <a:off x="2199240" y="2005200"/>
              <a:ext cx="554760" cy="550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48" name=""/>
            <p:cNvCxnSpPr>
              <a:stCxn id="543" idx="5"/>
              <a:endCxn id="512" idx="1"/>
            </p:cNvCxnSpPr>
            <p:nvPr/>
          </p:nvCxnSpPr>
          <p:spPr>
            <a:xfrm flipH="1" rot="16200000">
              <a:off x="2850480" y="2537640"/>
              <a:ext cx="87840" cy="415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49" name=""/>
            <p:cNvCxnSpPr>
              <a:stCxn id="545" idx="3"/>
              <a:endCxn id="473" idx="1"/>
            </p:cNvCxnSpPr>
            <p:nvPr/>
          </p:nvCxnSpPr>
          <p:spPr>
            <a:xfrm flipH="1" rot="16200000">
              <a:off x="2277360" y="3404160"/>
              <a:ext cx="388080" cy="573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0" name=""/>
            <p:cNvCxnSpPr>
              <a:stCxn id="545" idx="1"/>
              <a:endCxn id="543" idx="3"/>
            </p:cNvCxnSpPr>
            <p:nvPr/>
          </p:nvCxnSpPr>
          <p:spPr>
            <a:xfrm flipH="1" flipV="1" rot="5400000">
              <a:off x="1867320" y="3018240"/>
              <a:ext cx="651600" cy="18000"/>
            </a:xfrm>
            <a:prstGeom prst="curvedConnector5">
              <a:avLst>
                <a:gd name="adj1" fmla="val 49972"/>
                <a:gd name="adj2" fmla="val 48979"/>
                <a:gd name="adj3" fmla="val 49972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1" name=""/>
            <p:cNvCxnSpPr>
              <a:stCxn id="543" idx="4"/>
              <a:endCxn id="473" idx="0"/>
            </p:cNvCxnSpPr>
            <p:nvPr/>
          </p:nvCxnSpPr>
          <p:spPr>
            <a:xfrm flipH="1" rot="16200000">
              <a:off x="2209680" y="2966040"/>
              <a:ext cx="1053360" cy="585000"/>
            </a:xfrm>
            <a:prstGeom prst="curvedConnector5">
              <a:avLst>
                <a:gd name="adj1" fmla="val 49914"/>
                <a:gd name="adj2" fmla="val 50000"/>
                <a:gd name="adj3" fmla="val 4991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2" name=""/>
            <p:cNvCxnSpPr>
              <a:stCxn id="543" idx="1"/>
              <a:endCxn id="520" idx="1"/>
            </p:cNvCxnSpPr>
            <p:nvPr/>
          </p:nvCxnSpPr>
          <p:spPr>
            <a:xfrm flipH="1" flipV="1" rot="5400000">
              <a:off x="2451240" y="1324080"/>
              <a:ext cx="983520" cy="14835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3" name=""/>
            <p:cNvSpPr/>
            <p:nvPr/>
          </p:nvSpPr>
          <p:spPr>
            <a:xfrm>
              <a:off x="6197760" y="3681360"/>
              <a:ext cx="34740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4280" y="36892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>
              <a:stCxn id="483" idx="3"/>
              <a:endCxn id="473" idx="0"/>
            </p:cNvCxnSpPr>
            <p:nvPr/>
          </p:nvCxnSpPr>
          <p:spPr>
            <a:xfrm flipH="1" rot="16200000">
              <a:off x="2288520" y="3043080"/>
              <a:ext cx="1365840" cy="116640"/>
            </a:xfrm>
            <a:prstGeom prst="curvedConnector5">
              <a:avLst>
                <a:gd name="adj1" fmla="val 51278"/>
                <a:gd name="adj2" fmla="val 49845"/>
                <a:gd name="adj3" fmla="val 51278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60360" y="2333520"/>
            <a:ext cx="8318520" cy="2094120"/>
            <a:chOff x="360360" y="2333520"/>
            <a:chExt cx="8318520" cy="2094120"/>
          </a:xfrm>
        </p:grpSpPr>
        <p:sp>
          <p:nvSpPr>
            <p:cNvPr id="556" name=""/>
            <p:cNvSpPr/>
            <p:nvPr/>
          </p:nvSpPr>
          <p:spPr>
            <a:xfrm>
              <a:off x="360360" y="2333520"/>
              <a:ext cx="8318520" cy="209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41320" y="335268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42960" y="33940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>
              <a:stCxn id="557" idx="3"/>
              <a:endCxn id="560" idx="1"/>
            </p:cNvCxnSpPr>
            <p:nvPr/>
          </p:nvCxnSpPr>
          <p:spPr>
            <a:xfrm flipV="1">
              <a:off x="182376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1" name=""/>
            <p:cNvSpPr/>
            <p:nvPr/>
          </p:nvSpPr>
          <p:spPr>
            <a:xfrm>
              <a:off x="197820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57" idx="3"/>
              <a:endCxn id="561" idx="1"/>
            </p:cNvCxnSpPr>
            <p:nvPr/>
          </p:nvCxnSpPr>
          <p:spPr>
            <a:xfrm>
              <a:off x="182412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0" name=""/>
            <p:cNvSpPr/>
            <p:nvPr/>
          </p:nvSpPr>
          <p:spPr>
            <a:xfrm>
              <a:off x="196848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>
              <a:stCxn id="560" idx="1"/>
              <a:endCxn id="564" idx="1"/>
            </p:cNvCxnSpPr>
            <p:nvPr/>
          </p:nvCxnSpPr>
          <p:spPr>
            <a:xfrm>
              <a:off x="1968120" y="315072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65" name=""/>
            <p:cNvCxnSpPr>
              <a:stCxn id="561" idx="1"/>
              <a:endCxn id="566" idx="2"/>
            </p:cNvCxnSpPr>
            <p:nvPr/>
          </p:nvCxnSpPr>
          <p:spPr>
            <a:xfrm>
              <a:off x="197784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6" name=""/>
            <p:cNvSpPr/>
            <p:nvPr/>
          </p:nvSpPr>
          <p:spPr>
            <a:xfrm>
              <a:off x="2386080" y="3552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8280" y="310356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8580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38800" y="3787920"/>
              <a:ext cx="12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5600" y="335268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97240" y="339408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69" idx="3"/>
              <a:endCxn id="572" idx="1"/>
            </p:cNvCxnSpPr>
            <p:nvPr/>
          </p:nvCxnSpPr>
          <p:spPr>
            <a:xfrm flipV="1">
              <a:off x="267768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3" name=""/>
            <p:cNvSpPr/>
            <p:nvPr/>
          </p:nvSpPr>
          <p:spPr>
            <a:xfrm>
              <a:off x="283212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"/>
            <p:cNvCxnSpPr>
              <a:stCxn id="569" idx="3"/>
              <a:endCxn id="573" idx="1"/>
            </p:cNvCxnSpPr>
            <p:nvPr/>
          </p:nvCxnSpPr>
          <p:spPr>
            <a:xfrm>
              <a:off x="267804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2" name=""/>
            <p:cNvSpPr/>
            <p:nvPr/>
          </p:nvSpPr>
          <p:spPr>
            <a:xfrm>
              <a:off x="282240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" name=""/>
            <p:cNvCxnSpPr>
              <a:stCxn id="572" idx="1"/>
              <a:endCxn id="576" idx="1"/>
            </p:cNvCxnSpPr>
            <p:nvPr/>
          </p:nvCxnSpPr>
          <p:spPr>
            <a:xfrm>
              <a:off x="2822400" y="315072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73" idx="1"/>
              <a:endCxn id="578" idx="2"/>
            </p:cNvCxnSpPr>
            <p:nvPr/>
          </p:nvCxnSpPr>
          <p:spPr>
            <a:xfrm>
              <a:off x="283176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8" name=""/>
            <p:cNvSpPr/>
            <p:nvPr/>
          </p:nvSpPr>
          <p:spPr>
            <a:xfrm>
              <a:off x="3240000" y="355284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92560" y="3103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2396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8800" y="335268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0080" y="33940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80" idx="3"/>
              <a:endCxn id="583" idx="1"/>
            </p:cNvCxnSpPr>
            <p:nvPr/>
          </p:nvCxnSpPr>
          <p:spPr>
            <a:xfrm flipV="1">
              <a:off x="101088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4" name=""/>
            <p:cNvSpPr/>
            <p:nvPr/>
          </p:nvSpPr>
          <p:spPr>
            <a:xfrm>
              <a:off x="116532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5" name=""/>
            <p:cNvCxnSpPr>
              <a:stCxn id="580" idx="3"/>
              <a:endCxn id="584" idx="1"/>
            </p:cNvCxnSpPr>
            <p:nvPr/>
          </p:nvCxnSpPr>
          <p:spPr>
            <a:xfrm>
              <a:off x="101124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3" name=""/>
            <p:cNvSpPr/>
            <p:nvPr/>
          </p:nvSpPr>
          <p:spPr>
            <a:xfrm>
              <a:off x="115560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3" idx="1"/>
              <a:endCxn id="587" idx="1"/>
            </p:cNvCxnSpPr>
            <p:nvPr/>
          </p:nvCxnSpPr>
          <p:spPr>
            <a:xfrm>
              <a:off x="1155600" y="315072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88" name=""/>
            <p:cNvCxnSpPr>
              <a:stCxn id="584" idx="1"/>
              <a:endCxn id="589" idx="2"/>
            </p:cNvCxnSpPr>
            <p:nvPr/>
          </p:nvCxnSpPr>
          <p:spPr>
            <a:xfrm>
              <a:off x="116496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9" name=""/>
            <p:cNvSpPr/>
            <p:nvPr/>
          </p:nvSpPr>
          <p:spPr>
            <a:xfrm>
              <a:off x="1573200" y="3552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25760" y="3103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008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35560" y="3787920"/>
              <a:ext cx="124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48480" y="378792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78240" y="339876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"/>
            <p:cNvCxnSpPr>
              <a:stCxn id="595" idx="6"/>
              <a:endCxn id="596" idx="1"/>
            </p:cNvCxnSpPr>
            <p:nvPr/>
          </p:nvCxnSpPr>
          <p:spPr>
            <a:xfrm flipV="1">
              <a:off x="3682800" y="3082320"/>
              <a:ext cx="168840" cy="31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97" name=""/>
            <p:cNvSpPr/>
            <p:nvPr/>
          </p:nvSpPr>
          <p:spPr>
            <a:xfrm>
              <a:off x="3846600" y="3672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95" idx="6"/>
              <a:endCxn id="597" idx="1"/>
            </p:cNvCxnSpPr>
            <p:nvPr/>
          </p:nvCxnSpPr>
          <p:spPr>
            <a:xfrm>
              <a:off x="3683160" y="3396960"/>
              <a:ext cx="164160" cy="322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3851280" y="3035160"/>
              <a:ext cx="73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96" idx="1"/>
              <a:endCxn id="600" idx="1"/>
            </p:cNvCxnSpPr>
            <p:nvPr/>
          </p:nvCxnSpPr>
          <p:spPr>
            <a:xfrm>
              <a:off x="3851280" y="3082680"/>
              <a:ext cx="342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>
              <a:stCxn id="597" idx="1"/>
              <a:endCxn id="602" idx="2"/>
            </p:cNvCxnSpPr>
            <p:nvPr/>
          </p:nvCxnSpPr>
          <p:spPr>
            <a:xfrm>
              <a:off x="3846600" y="3719160"/>
              <a:ext cx="349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2" name=""/>
            <p:cNvSpPr/>
            <p:nvPr/>
          </p:nvSpPr>
          <p:spPr>
            <a:xfrm>
              <a:off x="4157640" y="3625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2560" y="303516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3" name=""/>
            <p:cNvCxnSpPr>
              <a:stCxn id="595" idx="6"/>
              <a:endCxn id="604" idx="1"/>
            </p:cNvCxnSpPr>
            <p:nvPr/>
          </p:nvCxnSpPr>
          <p:spPr>
            <a:xfrm flipV="1">
              <a:off x="3682800" y="3389040"/>
              <a:ext cx="471960" cy="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4" name=""/>
            <p:cNvSpPr/>
            <p:nvPr/>
          </p:nvSpPr>
          <p:spPr>
            <a:xfrm>
              <a:off x="4154400" y="3341520"/>
              <a:ext cx="748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75160" y="334332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35400" y="3787920"/>
              <a:ext cx="1146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3040" y="3787920"/>
              <a:ext cx="1361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84520" y="338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85840" y="293832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60640" y="3441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87480" y="2927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87480" y="319896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87480" y="3462480"/>
              <a:ext cx="56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97360" y="288432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87640" y="318780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97360" y="350532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281480" y="2884320"/>
              <a:ext cx="1069920" cy="882720"/>
              <a:chOff x="4281480" y="2884320"/>
              <a:chExt cx="1069920" cy="882720"/>
            </a:xfrm>
          </p:grpSpPr>
          <p:sp>
            <p:nvSpPr>
              <p:cNvPr id="617" name=""/>
              <p:cNvSpPr/>
              <p:nvPr/>
            </p:nvSpPr>
            <p:spPr>
              <a:xfrm>
                <a:off x="4281480" y="340056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18" name=""/>
              <p:cNvCxnSpPr>
                <a:stCxn id="619" idx="6"/>
                <a:endCxn id="620" idx="1"/>
              </p:cNvCxnSpPr>
              <p:nvPr/>
            </p:nvCxnSpPr>
            <p:spPr>
              <a:xfrm flipV="1">
                <a:off x="4586040" y="308232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1" name=""/>
              <p:cNvSpPr/>
              <p:nvPr/>
            </p:nvSpPr>
            <p:spPr>
              <a:xfrm>
                <a:off x="4749840" y="36734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2" name=""/>
              <p:cNvCxnSpPr>
                <a:stCxn id="619" idx="6"/>
                <a:endCxn id="621" idx="1"/>
              </p:cNvCxnSpPr>
              <p:nvPr/>
            </p:nvCxnSpPr>
            <p:spPr>
              <a:xfrm>
                <a:off x="4586400" y="339840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0" name=""/>
              <p:cNvSpPr/>
              <p:nvPr/>
            </p:nvSpPr>
            <p:spPr>
              <a:xfrm>
                <a:off x="4754520" y="303516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3" name=""/>
              <p:cNvCxnSpPr>
                <a:stCxn id="620" idx="1"/>
                <a:endCxn id="624" idx="1"/>
              </p:cNvCxnSpPr>
              <p:nvPr/>
            </p:nvCxnSpPr>
            <p:spPr>
              <a:xfrm>
                <a:off x="4754520" y="308268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25" name=""/>
              <p:cNvCxnSpPr>
                <a:stCxn id="621" idx="1"/>
                <a:endCxn id="626" idx="2"/>
              </p:cNvCxnSpPr>
              <p:nvPr/>
            </p:nvCxnSpPr>
            <p:spPr>
              <a:xfrm>
                <a:off x="4749840" y="372060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6" name=""/>
              <p:cNvSpPr/>
              <p:nvPr/>
            </p:nvSpPr>
            <p:spPr>
              <a:xfrm>
                <a:off x="5060880" y="362736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95800" y="30384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7" name=""/>
              <p:cNvCxnSpPr>
                <a:stCxn id="619" idx="6"/>
                <a:endCxn id="628" idx="2"/>
              </p:cNvCxnSpPr>
              <p:nvPr/>
            </p:nvCxnSpPr>
            <p:spPr>
              <a:xfrm>
                <a:off x="4586040" y="339840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8" name=""/>
              <p:cNvSpPr/>
              <p:nvPr/>
            </p:nvSpPr>
            <p:spPr>
              <a:xfrm>
                <a:off x="5057640" y="330516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478400" y="33447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8000" y="288432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8000" y="3198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88000" y="350532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170000" y="294012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44440" y="344340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5291280" y="2876400"/>
              <a:ext cx="1069920" cy="882720"/>
              <a:chOff x="5291280" y="2876400"/>
              <a:chExt cx="1069920" cy="882720"/>
            </a:xfrm>
          </p:grpSpPr>
          <p:sp>
            <p:nvSpPr>
              <p:cNvPr id="635" name=""/>
              <p:cNvSpPr/>
              <p:nvPr/>
            </p:nvSpPr>
            <p:spPr>
              <a:xfrm>
                <a:off x="5291280" y="339264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7" idx="6"/>
                <a:endCxn id="638" idx="1"/>
              </p:cNvCxnSpPr>
              <p:nvPr/>
            </p:nvCxnSpPr>
            <p:spPr>
              <a:xfrm flipV="1">
                <a:off x="5595840" y="307440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39" name=""/>
              <p:cNvSpPr/>
              <p:nvPr/>
            </p:nvSpPr>
            <p:spPr>
              <a:xfrm>
                <a:off x="5759640" y="366552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0" name=""/>
              <p:cNvCxnSpPr>
                <a:stCxn id="637" idx="6"/>
                <a:endCxn id="639" idx="1"/>
              </p:cNvCxnSpPr>
              <p:nvPr/>
            </p:nvCxnSpPr>
            <p:spPr>
              <a:xfrm>
                <a:off x="5596200" y="339048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38" name=""/>
              <p:cNvSpPr/>
              <p:nvPr/>
            </p:nvSpPr>
            <p:spPr>
              <a:xfrm>
                <a:off x="5764320" y="302724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"/>
              <p:cNvCxnSpPr>
                <a:stCxn id="638" idx="1"/>
                <a:endCxn id="642" idx="1"/>
              </p:cNvCxnSpPr>
              <p:nvPr/>
            </p:nvCxnSpPr>
            <p:spPr>
              <a:xfrm>
                <a:off x="5764320" y="307476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"/>
              <p:cNvCxnSpPr>
                <a:stCxn id="639" idx="1"/>
                <a:endCxn id="644" idx="2"/>
              </p:cNvCxnSpPr>
              <p:nvPr/>
            </p:nvCxnSpPr>
            <p:spPr>
              <a:xfrm>
                <a:off x="5759640" y="371268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44" name=""/>
              <p:cNvSpPr/>
              <p:nvPr/>
            </p:nvSpPr>
            <p:spPr>
              <a:xfrm>
                <a:off x="6070680" y="36194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05600" y="30304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5" name=""/>
              <p:cNvCxnSpPr>
                <a:stCxn id="637" idx="6"/>
                <a:endCxn id="646" idx="2"/>
              </p:cNvCxnSpPr>
              <p:nvPr/>
            </p:nvCxnSpPr>
            <p:spPr>
              <a:xfrm>
                <a:off x="5595840" y="339048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067440" y="329724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88200" y="33368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97800" y="28764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97800" y="319104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7800" y="349740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300720" y="2874960"/>
              <a:ext cx="1069920" cy="882720"/>
              <a:chOff x="6300720" y="2874960"/>
              <a:chExt cx="1069920" cy="882720"/>
            </a:xfrm>
          </p:grpSpPr>
          <p:sp>
            <p:nvSpPr>
              <p:cNvPr id="651" name=""/>
              <p:cNvSpPr/>
              <p:nvPr/>
            </p:nvSpPr>
            <p:spPr>
              <a:xfrm>
                <a:off x="6300720" y="33912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2" name=""/>
              <p:cNvCxnSpPr>
                <a:stCxn id="653" idx="6"/>
                <a:endCxn id="654" idx="1"/>
              </p:cNvCxnSpPr>
              <p:nvPr/>
            </p:nvCxnSpPr>
            <p:spPr>
              <a:xfrm flipV="1">
                <a:off x="6605280" y="307296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5" name=""/>
              <p:cNvSpPr/>
              <p:nvPr/>
            </p:nvSpPr>
            <p:spPr>
              <a:xfrm>
                <a:off x="6769080" y="36640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6" name=""/>
              <p:cNvCxnSpPr>
                <a:stCxn id="653" idx="6"/>
                <a:endCxn id="655" idx="1"/>
              </p:cNvCxnSpPr>
              <p:nvPr/>
            </p:nvCxnSpPr>
            <p:spPr>
              <a:xfrm>
                <a:off x="6605640" y="338904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4" name=""/>
              <p:cNvSpPr/>
              <p:nvPr/>
            </p:nvSpPr>
            <p:spPr>
              <a:xfrm>
                <a:off x="6773760" y="302580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7" name=""/>
              <p:cNvCxnSpPr>
                <a:stCxn id="654" idx="1"/>
                <a:endCxn id="658" idx="1"/>
              </p:cNvCxnSpPr>
              <p:nvPr/>
            </p:nvCxnSpPr>
            <p:spPr>
              <a:xfrm>
                <a:off x="6773760" y="307332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59" name=""/>
              <p:cNvCxnSpPr>
                <a:stCxn id="655" idx="1"/>
                <a:endCxn id="660" idx="2"/>
              </p:cNvCxnSpPr>
              <p:nvPr/>
            </p:nvCxnSpPr>
            <p:spPr>
              <a:xfrm>
                <a:off x="6769080" y="371124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60" name=""/>
              <p:cNvSpPr/>
              <p:nvPr/>
            </p:nvSpPr>
            <p:spPr>
              <a:xfrm>
                <a:off x="7080120" y="36180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5040" y="30290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1" name=""/>
              <p:cNvCxnSpPr>
                <a:stCxn id="653" idx="6"/>
                <a:endCxn id="662" idx="2"/>
              </p:cNvCxnSpPr>
              <p:nvPr/>
            </p:nvCxnSpPr>
            <p:spPr>
              <a:xfrm>
                <a:off x="6605280" y="338904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62" name=""/>
              <p:cNvSpPr/>
              <p:nvPr/>
            </p:nvSpPr>
            <p:spPr>
              <a:xfrm>
                <a:off x="7076880" y="329580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97640" y="3335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807240" y="2874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807240" y="31896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07240" y="349596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253280" y="2874960"/>
              <a:ext cx="1069920" cy="882720"/>
              <a:chOff x="7253280" y="2874960"/>
              <a:chExt cx="1069920" cy="882720"/>
            </a:xfrm>
          </p:grpSpPr>
          <p:sp>
            <p:nvSpPr>
              <p:cNvPr id="667" name=""/>
              <p:cNvSpPr/>
              <p:nvPr/>
            </p:nvSpPr>
            <p:spPr>
              <a:xfrm>
                <a:off x="7253280" y="33912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8" name=""/>
              <p:cNvCxnSpPr>
                <a:stCxn id="669" idx="6"/>
                <a:endCxn id="670" idx="1"/>
              </p:cNvCxnSpPr>
              <p:nvPr/>
            </p:nvCxnSpPr>
            <p:spPr>
              <a:xfrm flipV="1">
                <a:off x="7557840" y="307296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7721640" y="36640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69" idx="6"/>
                <a:endCxn id="671" idx="1"/>
              </p:cNvCxnSpPr>
              <p:nvPr/>
            </p:nvCxnSpPr>
            <p:spPr>
              <a:xfrm>
                <a:off x="7558200" y="338904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0" name=""/>
              <p:cNvSpPr/>
              <p:nvPr/>
            </p:nvSpPr>
            <p:spPr>
              <a:xfrm>
                <a:off x="7726320" y="302580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3" name=""/>
              <p:cNvCxnSpPr>
                <a:stCxn id="670" idx="1"/>
                <a:endCxn id="674" idx="1"/>
              </p:cNvCxnSpPr>
              <p:nvPr/>
            </p:nvCxnSpPr>
            <p:spPr>
              <a:xfrm>
                <a:off x="7726320" y="307332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75" name=""/>
              <p:cNvCxnSpPr>
                <a:stCxn id="671" idx="1"/>
                <a:endCxn id="676" idx="2"/>
              </p:cNvCxnSpPr>
              <p:nvPr/>
            </p:nvCxnSpPr>
            <p:spPr>
              <a:xfrm>
                <a:off x="7721640" y="371124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6" name=""/>
              <p:cNvSpPr/>
              <p:nvPr/>
            </p:nvSpPr>
            <p:spPr>
              <a:xfrm>
                <a:off x="8032680" y="36180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067600" y="30290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7" name=""/>
              <p:cNvCxnSpPr>
                <a:stCxn id="669" idx="6"/>
                <a:endCxn id="678" idx="2"/>
              </p:cNvCxnSpPr>
              <p:nvPr/>
            </p:nvCxnSpPr>
            <p:spPr>
              <a:xfrm>
                <a:off x="7557840" y="338904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8" name=""/>
              <p:cNvSpPr/>
              <p:nvPr/>
            </p:nvSpPr>
            <p:spPr>
              <a:xfrm>
                <a:off x="8029440" y="329580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50200" y="3335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59800" y="2874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59800" y="31896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59800" y="349596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189000" y="2016000"/>
            <a:ext cx="6122880" cy="4564080"/>
            <a:chOff x="189000" y="2016000"/>
            <a:chExt cx="6122880" cy="4564080"/>
          </a:xfrm>
        </p:grpSpPr>
        <p:sp>
          <p:nvSpPr>
            <p:cNvPr id="683" name=""/>
            <p:cNvSpPr/>
            <p:nvPr/>
          </p:nvSpPr>
          <p:spPr>
            <a:xfrm>
              <a:off x="189000" y="2016000"/>
              <a:ext cx="6122880" cy="456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04960" y="606600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46640" y="60660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55760" y="4013280"/>
              <a:ext cx="119160" cy="10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720" y="4070520"/>
              <a:ext cx="6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8" name=""/>
            <p:cNvCxnSpPr>
              <a:stCxn id="686" idx="3"/>
              <a:endCxn id="689" idx="1"/>
            </p:cNvCxnSpPr>
            <p:nvPr/>
          </p:nvCxnSpPr>
          <p:spPr>
            <a:xfrm flipV="1">
              <a:off x="1474920" y="3174120"/>
              <a:ext cx="140400" cy="894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90" name=""/>
            <p:cNvSpPr/>
            <p:nvPr/>
          </p:nvSpPr>
          <p:spPr>
            <a:xfrm>
              <a:off x="1623960" y="4826160"/>
              <a:ext cx="7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"/>
            <p:cNvCxnSpPr>
              <a:stCxn id="686" idx="3"/>
              <a:endCxn id="690" idx="1"/>
            </p:cNvCxnSpPr>
            <p:nvPr/>
          </p:nvCxnSpPr>
          <p:spPr>
            <a:xfrm>
              <a:off x="1474920" y="4068720"/>
              <a:ext cx="149760" cy="930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89" name=""/>
            <p:cNvSpPr/>
            <p:nvPr/>
          </p:nvSpPr>
          <p:spPr>
            <a:xfrm>
              <a:off x="1614600" y="3002040"/>
              <a:ext cx="73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2" name=""/>
            <p:cNvCxnSpPr>
              <a:stCxn id="689" idx="1"/>
              <a:endCxn id="693" idx="1"/>
            </p:cNvCxnSpPr>
            <p:nvPr/>
          </p:nvCxnSpPr>
          <p:spPr>
            <a:xfrm>
              <a:off x="1614600" y="3174480"/>
              <a:ext cx="775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94" name=""/>
            <p:cNvCxnSpPr>
              <a:stCxn id="690" idx="1"/>
              <a:endCxn id="695" idx="2"/>
            </p:cNvCxnSpPr>
            <p:nvPr/>
          </p:nvCxnSpPr>
          <p:spPr>
            <a:xfrm>
              <a:off x="1623960" y="4998600"/>
              <a:ext cx="75168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95" name=""/>
            <p:cNvSpPr/>
            <p:nvPr/>
          </p:nvSpPr>
          <p:spPr>
            <a:xfrm>
              <a:off x="2336760" y="4656240"/>
              <a:ext cx="7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89320" y="3002040"/>
              <a:ext cx="7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1000" y="60660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31960" y="2944800"/>
              <a:ext cx="1236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 tp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5200" y="4761000"/>
              <a:ext cx="112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1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16400" y="3384720"/>
              <a:ext cx="7452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18040" y="34257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1" name=""/>
            <p:cNvCxnSpPr>
              <a:stCxn id="699" idx="3"/>
              <a:endCxn id="702" idx="1"/>
            </p:cNvCxnSpPr>
            <p:nvPr/>
          </p:nvCxnSpPr>
          <p:spPr>
            <a:xfrm flipV="1">
              <a:off x="3490560" y="3182400"/>
              <a:ext cx="153000" cy="24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3" name=""/>
            <p:cNvSpPr/>
            <p:nvPr/>
          </p:nvSpPr>
          <p:spPr>
            <a:xfrm>
              <a:off x="3652920" y="36306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4" name=""/>
            <p:cNvCxnSpPr>
              <a:stCxn id="699" idx="3"/>
              <a:endCxn id="703" idx="1"/>
            </p:cNvCxnSpPr>
            <p:nvPr/>
          </p:nvCxnSpPr>
          <p:spPr>
            <a:xfrm>
              <a:off x="3490920" y="3427560"/>
              <a:ext cx="162720" cy="250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2" name=""/>
            <p:cNvSpPr/>
            <p:nvPr/>
          </p:nvSpPr>
          <p:spPr>
            <a:xfrm>
              <a:off x="3643200" y="313524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"/>
            <p:cNvCxnSpPr>
              <a:stCxn id="702" idx="1"/>
              <a:endCxn id="706" idx="1"/>
            </p:cNvCxnSpPr>
            <p:nvPr/>
          </p:nvCxnSpPr>
          <p:spPr>
            <a:xfrm>
              <a:off x="3643200" y="318240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3" idx="1"/>
              <a:endCxn id="708" idx="2"/>
            </p:cNvCxnSpPr>
            <p:nvPr/>
          </p:nvCxnSpPr>
          <p:spPr>
            <a:xfrm>
              <a:off x="3652560" y="367776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8" name=""/>
            <p:cNvSpPr/>
            <p:nvPr/>
          </p:nvSpPr>
          <p:spPr>
            <a:xfrm>
              <a:off x="4060800" y="35845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13360" y="31352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95680" y="2949480"/>
              <a:ext cx="779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05040" y="3446640"/>
              <a:ext cx="998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76520" y="313200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74920" y="31766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3" name=""/>
            <p:cNvCxnSpPr>
              <a:stCxn id="711" idx="3"/>
              <a:endCxn id="714" idx="1"/>
            </p:cNvCxnSpPr>
            <p:nvPr/>
          </p:nvCxnSpPr>
          <p:spPr>
            <a:xfrm flipV="1">
              <a:off x="2658960" y="2625120"/>
              <a:ext cx="145440" cy="549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15" name=""/>
            <p:cNvSpPr/>
            <p:nvPr/>
          </p:nvSpPr>
          <p:spPr>
            <a:xfrm>
              <a:off x="2813040" y="33782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6" name=""/>
            <p:cNvCxnSpPr>
              <a:stCxn id="711" idx="3"/>
              <a:endCxn id="715" idx="1"/>
            </p:cNvCxnSpPr>
            <p:nvPr/>
          </p:nvCxnSpPr>
          <p:spPr>
            <a:xfrm>
              <a:off x="2658960" y="317448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803680" y="2577960"/>
              <a:ext cx="727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4" idx="1"/>
              <a:endCxn id="718" idx="1"/>
            </p:cNvCxnSpPr>
            <p:nvPr/>
          </p:nvCxnSpPr>
          <p:spPr>
            <a:xfrm>
              <a:off x="2803320" y="262548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19" name=""/>
            <p:cNvCxnSpPr>
              <a:stCxn id="715" idx="1"/>
              <a:endCxn id="720" idx="2"/>
            </p:cNvCxnSpPr>
            <p:nvPr/>
          </p:nvCxnSpPr>
          <p:spPr>
            <a:xfrm>
              <a:off x="2812680" y="342540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0" name=""/>
            <p:cNvSpPr/>
            <p:nvPr/>
          </p:nvSpPr>
          <p:spPr>
            <a:xfrm>
              <a:off x="3220920" y="333216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73480" y="257796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63800" y="241308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95480" y="322092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70240" y="262584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95680" y="2405160"/>
              <a:ext cx="1135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97160" y="26258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6" name=""/>
            <p:cNvCxnSpPr>
              <a:stCxn id="727" idx="6"/>
              <a:endCxn id="728" idx="1"/>
            </p:cNvCxnSpPr>
            <p:nvPr/>
          </p:nvCxnSpPr>
          <p:spPr>
            <a:xfrm flipV="1">
              <a:off x="4464000" y="249048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9" name=""/>
            <p:cNvSpPr/>
            <p:nvPr/>
          </p:nvSpPr>
          <p:spPr>
            <a:xfrm>
              <a:off x="4565520" y="274320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0" name=""/>
            <p:cNvCxnSpPr>
              <a:stCxn id="727" idx="6"/>
              <a:endCxn id="729" idx="1"/>
            </p:cNvCxnSpPr>
            <p:nvPr/>
          </p:nvCxnSpPr>
          <p:spPr>
            <a:xfrm>
              <a:off x="4464000" y="263196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8" name=""/>
            <p:cNvSpPr/>
            <p:nvPr/>
          </p:nvSpPr>
          <p:spPr>
            <a:xfrm>
              <a:off x="4570560" y="247032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28" idx="1"/>
              <a:endCxn id="732" idx="1"/>
            </p:cNvCxnSpPr>
            <p:nvPr/>
          </p:nvCxnSpPr>
          <p:spPr>
            <a:xfrm>
              <a:off x="4570560" y="249084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33" name=""/>
            <p:cNvCxnSpPr>
              <a:stCxn id="729" idx="1"/>
              <a:endCxn id="734" idx="2"/>
            </p:cNvCxnSpPr>
            <p:nvPr/>
          </p:nvCxnSpPr>
          <p:spPr>
            <a:xfrm>
              <a:off x="4565160" y="276336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4" name=""/>
            <p:cNvSpPr/>
            <p:nvPr/>
          </p:nvSpPr>
          <p:spPr>
            <a:xfrm>
              <a:off x="4876920" y="272268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11840" y="24717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27" idx="6"/>
              <a:endCxn id="736" idx="2"/>
            </p:cNvCxnSpPr>
            <p:nvPr/>
          </p:nvCxnSpPr>
          <p:spPr>
            <a:xfrm flipV="1">
              <a:off x="4464000" y="262512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873680" y="258588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73640" y="258588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16520" y="2341440"/>
              <a:ext cx="11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60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16520" y="2481120"/>
              <a:ext cx="123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16520" y="2620800"/>
              <a:ext cx="104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97160" y="3184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1" name=""/>
            <p:cNvCxnSpPr>
              <a:stCxn id="742" idx="6"/>
              <a:endCxn id="743" idx="1"/>
            </p:cNvCxnSpPr>
            <p:nvPr/>
          </p:nvCxnSpPr>
          <p:spPr>
            <a:xfrm flipV="1">
              <a:off x="4464000" y="3048840"/>
              <a:ext cx="107280" cy="142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4" name=""/>
            <p:cNvSpPr/>
            <p:nvPr/>
          </p:nvSpPr>
          <p:spPr>
            <a:xfrm>
              <a:off x="4565520" y="330192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5" name=""/>
            <p:cNvCxnSpPr>
              <a:stCxn id="742" idx="6"/>
              <a:endCxn id="744" idx="1"/>
            </p:cNvCxnSpPr>
            <p:nvPr/>
          </p:nvCxnSpPr>
          <p:spPr>
            <a:xfrm>
              <a:off x="4464000" y="319104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3" name=""/>
            <p:cNvSpPr/>
            <p:nvPr/>
          </p:nvSpPr>
          <p:spPr>
            <a:xfrm>
              <a:off x="4570560" y="302904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3" idx="1"/>
              <a:endCxn id="747" idx="1"/>
            </p:cNvCxnSpPr>
            <p:nvPr/>
          </p:nvCxnSpPr>
          <p:spPr>
            <a:xfrm>
              <a:off x="4570560" y="304956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48" name=""/>
            <p:cNvCxnSpPr>
              <a:stCxn id="744" idx="1"/>
              <a:endCxn id="749" idx="2"/>
            </p:cNvCxnSpPr>
            <p:nvPr/>
          </p:nvCxnSpPr>
          <p:spPr>
            <a:xfrm>
              <a:off x="4565160" y="332244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9" name=""/>
            <p:cNvSpPr/>
            <p:nvPr/>
          </p:nvSpPr>
          <p:spPr>
            <a:xfrm>
              <a:off x="4876920" y="328140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11840" y="303048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2" idx="6"/>
              <a:endCxn id="751" idx="2"/>
            </p:cNvCxnSpPr>
            <p:nvPr/>
          </p:nvCxnSpPr>
          <p:spPr>
            <a:xfrm flipV="1">
              <a:off x="4464000" y="3184200"/>
              <a:ext cx="4485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1" name=""/>
            <p:cNvSpPr/>
            <p:nvPr/>
          </p:nvSpPr>
          <p:spPr>
            <a:xfrm>
              <a:off x="4873680" y="31449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73640" y="314496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16520" y="2900520"/>
              <a:ext cx="110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4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16520" y="304020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16520" y="3179880"/>
              <a:ext cx="112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97160" y="36799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6" name=""/>
            <p:cNvCxnSpPr>
              <a:stCxn id="757" idx="6"/>
              <a:endCxn id="758" idx="1"/>
            </p:cNvCxnSpPr>
            <p:nvPr/>
          </p:nvCxnSpPr>
          <p:spPr>
            <a:xfrm flipV="1">
              <a:off x="4464000" y="354456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9" name=""/>
            <p:cNvSpPr/>
            <p:nvPr/>
          </p:nvSpPr>
          <p:spPr>
            <a:xfrm>
              <a:off x="4565520" y="379728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stCxn id="757" idx="6"/>
              <a:endCxn id="759" idx="1"/>
            </p:cNvCxnSpPr>
            <p:nvPr/>
          </p:nvCxnSpPr>
          <p:spPr>
            <a:xfrm>
              <a:off x="4464000" y="368604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8" name=""/>
            <p:cNvSpPr/>
            <p:nvPr/>
          </p:nvSpPr>
          <p:spPr>
            <a:xfrm>
              <a:off x="4570560" y="352440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1" name=""/>
            <p:cNvCxnSpPr>
              <a:stCxn id="758" idx="1"/>
              <a:endCxn id="762" idx="1"/>
            </p:cNvCxnSpPr>
            <p:nvPr/>
          </p:nvCxnSpPr>
          <p:spPr>
            <a:xfrm>
              <a:off x="4570560" y="354492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63" name=""/>
            <p:cNvCxnSpPr>
              <a:stCxn id="759" idx="1"/>
              <a:endCxn id="764" idx="2"/>
            </p:cNvCxnSpPr>
            <p:nvPr/>
          </p:nvCxnSpPr>
          <p:spPr>
            <a:xfrm>
              <a:off x="4565160" y="381744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4" name=""/>
            <p:cNvSpPr/>
            <p:nvPr/>
          </p:nvSpPr>
          <p:spPr>
            <a:xfrm>
              <a:off x="4876920" y="377676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11840" y="352584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5" name=""/>
            <p:cNvCxnSpPr>
              <a:stCxn id="757" idx="6"/>
              <a:endCxn id="766" idx="2"/>
            </p:cNvCxnSpPr>
            <p:nvPr/>
          </p:nvCxnSpPr>
          <p:spPr>
            <a:xfrm flipV="1">
              <a:off x="4464000" y="367920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6" name=""/>
            <p:cNvSpPr/>
            <p:nvPr/>
          </p:nvSpPr>
          <p:spPr>
            <a:xfrm>
              <a:off x="4873680" y="363996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73640" y="363996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16520" y="3395520"/>
              <a:ext cx="110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3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16520" y="3535200"/>
              <a:ext cx="1100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16520" y="36752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  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97160" y="4451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1" name=""/>
            <p:cNvCxnSpPr>
              <a:stCxn id="772" idx="6"/>
              <a:endCxn id="773" idx="1"/>
            </p:cNvCxnSpPr>
            <p:nvPr/>
          </p:nvCxnSpPr>
          <p:spPr>
            <a:xfrm flipV="1">
              <a:off x="4464000" y="4315680"/>
              <a:ext cx="107280" cy="142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4" name=""/>
            <p:cNvSpPr/>
            <p:nvPr/>
          </p:nvSpPr>
          <p:spPr>
            <a:xfrm>
              <a:off x="4565520" y="456876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5" name=""/>
            <p:cNvCxnSpPr>
              <a:stCxn id="772" idx="6"/>
              <a:endCxn id="774" idx="1"/>
            </p:cNvCxnSpPr>
            <p:nvPr/>
          </p:nvCxnSpPr>
          <p:spPr>
            <a:xfrm>
              <a:off x="4464000" y="445788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3" name=""/>
            <p:cNvSpPr/>
            <p:nvPr/>
          </p:nvSpPr>
          <p:spPr>
            <a:xfrm>
              <a:off x="4570560" y="429588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6" name=""/>
            <p:cNvCxnSpPr>
              <a:stCxn id="773" idx="1"/>
              <a:endCxn id="777" idx="1"/>
            </p:cNvCxnSpPr>
            <p:nvPr/>
          </p:nvCxnSpPr>
          <p:spPr>
            <a:xfrm>
              <a:off x="4570560" y="431640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>
              <a:stCxn id="774" idx="1"/>
              <a:endCxn id="779" idx="2"/>
            </p:cNvCxnSpPr>
            <p:nvPr/>
          </p:nvCxnSpPr>
          <p:spPr>
            <a:xfrm>
              <a:off x="4565160" y="458928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4876920" y="454824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11840" y="429732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2" idx="6"/>
              <a:endCxn id="781" idx="2"/>
            </p:cNvCxnSpPr>
            <p:nvPr/>
          </p:nvCxnSpPr>
          <p:spPr>
            <a:xfrm flipV="1">
              <a:off x="4464000" y="4451040"/>
              <a:ext cx="4485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1" name=""/>
            <p:cNvSpPr/>
            <p:nvPr/>
          </p:nvSpPr>
          <p:spPr>
            <a:xfrm>
              <a:off x="4873680" y="441180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73640" y="441180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16520" y="416736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3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16520" y="430704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10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16520" y="4446720"/>
              <a:ext cx="11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97160" y="50054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6" name=""/>
            <p:cNvCxnSpPr>
              <a:stCxn id="787" idx="6"/>
              <a:endCxn id="788" idx="1"/>
            </p:cNvCxnSpPr>
            <p:nvPr/>
          </p:nvCxnSpPr>
          <p:spPr>
            <a:xfrm flipV="1">
              <a:off x="4464000" y="487008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9" name=""/>
            <p:cNvSpPr/>
            <p:nvPr/>
          </p:nvSpPr>
          <p:spPr>
            <a:xfrm>
              <a:off x="4565520" y="512280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0" name=""/>
            <p:cNvCxnSpPr>
              <a:stCxn id="787" idx="6"/>
              <a:endCxn id="789" idx="1"/>
            </p:cNvCxnSpPr>
            <p:nvPr/>
          </p:nvCxnSpPr>
          <p:spPr>
            <a:xfrm>
              <a:off x="4464000" y="5011200"/>
              <a:ext cx="102240" cy="132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8" name=""/>
            <p:cNvSpPr/>
            <p:nvPr/>
          </p:nvSpPr>
          <p:spPr>
            <a:xfrm>
              <a:off x="4570560" y="484992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1" name=""/>
            <p:cNvCxnSpPr>
              <a:stCxn id="788" idx="1"/>
              <a:endCxn id="792" idx="1"/>
            </p:cNvCxnSpPr>
            <p:nvPr/>
          </p:nvCxnSpPr>
          <p:spPr>
            <a:xfrm>
              <a:off x="4570560" y="487044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9" idx="1"/>
              <a:endCxn id="794" idx="2"/>
            </p:cNvCxnSpPr>
            <p:nvPr/>
          </p:nvCxnSpPr>
          <p:spPr>
            <a:xfrm>
              <a:off x="4565160" y="514332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4876920" y="510228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1840" y="48513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5" name=""/>
            <p:cNvCxnSpPr>
              <a:stCxn id="787" idx="6"/>
              <a:endCxn id="796" idx="2"/>
            </p:cNvCxnSpPr>
            <p:nvPr/>
          </p:nvCxnSpPr>
          <p:spPr>
            <a:xfrm flipV="1">
              <a:off x="4464000" y="500472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96" name=""/>
            <p:cNvSpPr/>
            <p:nvPr/>
          </p:nvSpPr>
          <p:spPr>
            <a:xfrm>
              <a:off x="4873680" y="496584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73640" y="496584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16520" y="472140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2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16520" y="4861080"/>
              <a:ext cx="11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16520" y="5000760"/>
              <a:ext cx="122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 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97160" y="5500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802" idx="6"/>
              <a:endCxn id="803" idx="1"/>
            </p:cNvCxnSpPr>
            <p:nvPr/>
          </p:nvCxnSpPr>
          <p:spPr>
            <a:xfrm flipV="1">
              <a:off x="4464000" y="536544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4" name=""/>
            <p:cNvSpPr/>
            <p:nvPr/>
          </p:nvSpPr>
          <p:spPr>
            <a:xfrm>
              <a:off x="4565520" y="561816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6"/>
              <a:endCxn id="804" idx="1"/>
            </p:cNvCxnSpPr>
            <p:nvPr/>
          </p:nvCxnSpPr>
          <p:spPr>
            <a:xfrm>
              <a:off x="4464000" y="550692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3" name=""/>
            <p:cNvSpPr/>
            <p:nvPr/>
          </p:nvSpPr>
          <p:spPr>
            <a:xfrm>
              <a:off x="4570560" y="534528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3" idx="1"/>
              <a:endCxn id="807" idx="1"/>
            </p:cNvCxnSpPr>
            <p:nvPr/>
          </p:nvCxnSpPr>
          <p:spPr>
            <a:xfrm>
              <a:off x="4570560" y="536580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08" name=""/>
            <p:cNvCxnSpPr>
              <a:stCxn id="804" idx="1"/>
              <a:endCxn id="809" idx="2"/>
            </p:cNvCxnSpPr>
            <p:nvPr/>
          </p:nvCxnSpPr>
          <p:spPr>
            <a:xfrm>
              <a:off x="4565160" y="563832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9" name=""/>
            <p:cNvSpPr/>
            <p:nvPr/>
          </p:nvSpPr>
          <p:spPr>
            <a:xfrm>
              <a:off x="4876920" y="559764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11840" y="534672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0" name=""/>
            <p:cNvCxnSpPr>
              <a:stCxn id="802" idx="6"/>
              <a:endCxn id="811" idx="2"/>
            </p:cNvCxnSpPr>
            <p:nvPr/>
          </p:nvCxnSpPr>
          <p:spPr>
            <a:xfrm flipV="1">
              <a:off x="4464000" y="550008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1" name=""/>
            <p:cNvSpPr/>
            <p:nvPr/>
          </p:nvSpPr>
          <p:spPr>
            <a:xfrm>
              <a:off x="4873680" y="546084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73640" y="546084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16520" y="5216400"/>
              <a:ext cx="11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1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16520" y="5356080"/>
              <a:ext cx="101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16520" y="549576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  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03440" y="5207040"/>
              <a:ext cx="7488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05080" y="52484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7" name=""/>
            <p:cNvCxnSpPr>
              <a:stCxn id="815" idx="3"/>
              <a:endCxn id="818" idx="1"/>
            </p:cNvCxnSpPr>
            <p:nvPr/>
          </p:nvCxnSpPr>
          <p:spPr>
            <a:xfrm flipV="1">
              <a:off x="3477960" y="5005080"/>
              <a:ext cx="15300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3639960" y="5452920"/>
              <a:ext cx="748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0" name=""/>
            <p:cNvCxnSpPr>
              <a:stCxn id="815" idx="3"/>
              <a:endCxn id="819" idx="1"/>
            </p:cNvCxnSpPr>
            <p:nvPr/>
          </p:nvCxnSpPr>
          <p:spPr>
            <a:xfrm>
              <a:off x="3477960" y="5249520"/>
              <a:ext cx="16236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8" name=""/>
            <p:cNvSpPr/>
            <p:nvPr/>
          </p:nvSpPr>
          <p:spPr>
            <a:xfrm>
              <a:off x="3630600" y="495792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18" idx="1"/>
              <a:endCxn id="822" idx="1"/>
            </p:cNvCxnSpPr>
            <p:nvPr/>
          </p:nvCxnSpPr>
          <p:spPr>
            <a:xfrm>
              <a:off x="3630240" y="500508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1"/>
              <a:endCxn id="824" idx="2"/>
            </p:cNvCxnSpPr>
            <p:nvPr/>
          </p:nvCxnSpPr>
          <p:spPr>
            <a:xfrm>
              <a:off x="3639600" y="5500440"/>
              <a:ext cx="459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24" name=""/>
            <p:cNvSpPr/>
            <p:nvPr/>
          </p:nvSpPr>
          <p:spPr>
            <a:xfrm>
              <a:off x="4060800" y="54072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00400" y="495792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02160" y="4762440"/>
              <a:ext cx="99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3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02160" y="5259240"/>
              <a:ext cx="112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1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63920" y="49546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62320" y="49989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9" name=""/>
            <p:cNvCxnSpPr>
              <a:stCxn id="827" idx="3"/>
              <a:endCxn id="830" idx="1"/>
            </p:cNvCxnSpPr>
            <p:nvPr/>
          </p:nvCxnSpPr>
          <p:spPr>
            <a:xfrm flipV="1">
              <a:off x="2638080" y="4447800"/>
              <a:ext cx="153000" cy="550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1" name=""/>
            <p:cNvSpPr/>
            <p:nvPr/>
          </p:nvSpPr>
          <p:spPr>
            <a:xfrm>
              <a:off x="2800440" y="5200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2" name=""/>
            <p:cNvCxnSpPr>
              <a:stCxn id="827" idx="3"/>
              <a:endCxn id="831" idx="1"/>
            </p:cNvCxnSpPr>
            <p:nvPr/>
          </p:nvCxnSpPr>
          <p:spPr>
            <a:xfrm>
              <a:off x="2638440" y="4997160"/>
              <a:ext cx="16272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0" name=""/>
            <p:cNvSpPr/>
            <p:nvPr/>
          </p:nvSpPr>
          <p:spPr>
            <a:xfrm>
              <a:off x="2790720" y="440064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3" name=""/>
            <p:cNvCxnSpPr>
              <a:stCxn id="830" idx="1"/>
              <a:endCxn id="834" idx="1"/>
            </p:cNvCxnSpPr>
            <p:nvPr/>
          </p:nvCxnSpPr>
          <p:spPr>
            <a:xfrm>
              <a:off x="2790720" y="444780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35" name=""/>
            <p:cNvCxnSpPr>
              <a:stCxn id="831" idx="1"/>
              <a:endCxn id="836" idx="2"/>
            </p:cNvCxnSpPr>
            <p:nvPr/>
          </p:nvCxnSpPr>
          <p:spPr>
            <a:xfrm>
              <a:off x="2800080" y="5248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6" name=""/>
            <p:cNvSpPr/>
            <p:nvPr/>
          </p:nvSpPr>
          <p:spPr>
            <a:xfrm>
              <a:off x="3208320" y="515448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60880" y="44006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1200" y="42354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82880" y="5043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60880" y="444960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3080" y="4203720"/>
              <a:ext cx="1287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1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10200" y="6066000"/>
              <a:ext cx="118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certain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1880" y="3825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[NPV]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844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3665520"/>
              <a:ext cx="3645000" cy="24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2960" y="61452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960" y="59007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2960" y="56451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2960" y="5400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2960" y="51562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2960" y="49118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2960" y="4654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2960" y="44100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2960" y="41655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2960" y="39099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2960" y="36655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8580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1768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147760" y="6145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868480" y="6145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59892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33080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868480" y="3665520"/>
              <a:ext cx="146232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782720" y="4289400"/>
              <a:ext cx="108576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228320" y="4911840"/>
              <a:ext cx="55404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863640" y="5522760"/>
              <a:ext cx="36504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86160" y="362124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24200" y="42451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39880" y="486720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85840" y="54784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19000" y="610092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8240" y="605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6640" y="5811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6640" y="5556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6640" y="5311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640" y="5067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6640" y="4822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6640" y="4567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6640" y="4321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6640" y="4076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6640" y="3821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8240" y="357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3760" y="626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3956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7144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9036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2224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20640" y="62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14000" y="65134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54000" y="481752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893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4360" y="3664080"/>
              <a:ext cx="3646440" cy="2484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9720" y="614844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9720" y="590400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9720" y="564984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9720" y="540540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9720" y="515160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9720" y="490680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9720" y="466416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9720" y="440856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9720" y="416232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9720" y="390852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9720" y="366408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8436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41444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143080" y="6148080"/>
              <a:ext cx="180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71720" y="6148080"/>
              <a:ext cx="3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360216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33080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6760" y="3664080"/>
              <a:ext cx="1094040" cy="123840"/>
            </a:xfrm>
            <a:custGeom>
              <a:avLst/>
              <a:gdLst/>
              <a:ahLst/>
              <a:rect l="l" t="t" r="r" b="b"/>
              <a:pathLst>
                <a:path w="671" h="75">
                  <a:moveTo>
                    <a:pt x="671" y="0"/>
                  </a:moveTo>
                  <a:lnTo>
                    <a:pt x="502" y="14"/>
                  </a:lnTo>
                  <a:lnTo>
                    <a:pt x="332" y="21"/>
                  </a:lnTo>
                  <a:lnTo>
                    <a:pt x="169" y="41"/>
                  </a:lnTo>
                  <a:lnTo>
                    <a:pt x="81" y="55"/>
                  </a:lnTo>
                  <a:lnTo>
                    <a:pt x="0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43080" y="3787920"/>
              <a:ext cx="1093680" cy="498240"/>
            </a:xfrm>
            <a:custGeom>
              <a:avLst/>
              <a:gdLst/>
              <a:ahLst/>
              <a:rect l="l" t="t" r="r" b="b"/>
              <a:pathLst>
                <a:path w="672" h="305">
                  <a:moveTo>
                    <a:pt x="672" y="0"/>
                  </a:moveTo>
                  <a:lnTo>
                    <a:pt x="584" y="27"/>
                  </a:lnTo>
                  <a:lnTo>
                    <a:pt x="495" y="61"/>
                  </a:lnTo>
                  <a:lnTo>
                    <a:pt x="319" y="135"/>
                  </a:lnTo>
                  <a:lnTo>
                    <a:pt x="231" y="176"/>
                  </a:lnTo>
                  <a:lnTo>
                    <a:pt x="150" y="217"/>
                  </a:lnTo>
                  <a:lnTo>
                    <a:pt x="68" y="264"/>
                  </a:lnTo>
                  <a:lnTo>
                    <a:pt x="0" y="30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490760" y="4286160"/>
              <a:ext cx="652320" cy="620640"/>
            </a:xfrm>
            <a:custGeom>
              <a:avLst/>
              <a:gdLst/>
              <a:ahLst/>
              <a:rect l="l" t="t" r="r" b="b"/>
              <a:pathLst>
                <a:path w="400" h="380">
                  <a:moveTo>
                    <a:pt x="400" y="0"/>
                  </a:moveTo>
                  <a:lnTo>
                    <a:pt x="339" y="41"/>
                  </a:lnTo>
                  <a:lnTo>
                    <a:pt x="278" y="88"/>
                  </a:lnTo>
                  <a:lnTo>
                    <a:pt x="170" y="183"/>
                  </a:lnTo>
                  <a:lnTo>
                    <a:pt x="82" y="285"/>
                  </a:lnTo>
                  <a:lnTo>
                    <a:pt x="0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27160" y="4906800"/>
              <a:ext cx="363600" cy="621000"/>
            </a:xfrm>
            <a:custGeom>
              <a:avLst/>
              <a:gdLst/>
              <a:ahLst/>
              <a:rect l="l" t="t" r="r" b="b"/>
              <a:pathLst>
                <a:path w="223" h="379">
                  <a:moveTo>
                    <a:pt x="223" y="0"/>
                  </a:moveTo>
                  <a:lnTo>
                    <a:pt x="156" y="95"/>
                  </a:lnTo>
                  <a:lnTo>
                    <a:pt x="95" y="190"/>
                  </a:lnTo>
                  <a:lnTo>
                    <a:pt x="47" y="285"/>
                  </a:lnTo>
                  <a:lnTo>
                    <a:pt x="0" y="3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3000" y="5527800"/>
              <a:ext cx="254160" cy="620640"/>
            </a:xfrm>
            <a:custGeom>
              <a:avLst/>
              <a:gdLst/>
              <a:ahLst/>
              <a:rect l="l" t="t" r="r" b="b"/>
              <a:pathLst>
                <a:path w="156" h="380">
                  <a:moveTo>
                    <a:pt x="156" y="0"/>
                  </a:moveTo>
                  <a:lnTo>
                    <a:pt x="115" y="95"/>
                  </a:lnTo>
                  <a:lnTo>
                    <a:pt x="74" y="190"/>
                  </a:lnTo>
                  <a:lnTo>
                    <a:pt x="0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7160" y="605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5200" y="5816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5200" y="5560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5200" y="53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5200" y="506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5200" y="481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5200" y="4573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520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5200" y="4075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5200" y="381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7160" y="357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2680" y="6270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3632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6496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9576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2404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18840" y="627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20120" y="65152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6200000">
              <a:off x="49320" y="482112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47760" y="4277880"/>
              <a:ext cx="0" cy="1854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876400" y="3922560"/>
              <a:ext cx="0" cy="2222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689040" y="5025960"/>
              <a:ext cx="130968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1414440" y="5009760"/>
              <a:ext cx="1440" cy="1133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78960" y="4278240"/>
              <a:ext cx="17211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91920" y="3924360"/>
              <a:ext cx="2352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9360" y="427824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717200" y="3922560"/>
              <a:ext cx="1800" cy="34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4560" y="4538520"/>
              <a:ext cx="98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(40) – U(2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4560" y="3973680"/>
              <a:ext cx="98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(60) – U(4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948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5040" y="3679920"/>
              <a:ext cx="3738600" cy="2436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1560" y="61167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01560" y="57085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1560" y="52992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1560" y="49039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1560" y="44956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1560" y="40878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560" y="36799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3504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25748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188136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503440" y="61164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3127320" y="61164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74976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37364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5040" y="5311800"/>
              <a:ext cx="311040" cy="804960"/>
            </a:xfrm>
            <a:custGeom>
              <a:avLst/>
              <a:gdLst/>
              <a:ahLst/>
              <a:rect l="l" t="t" r="r" b="b"/>
              <a:pathLst>
                <a:path w="191" h="469">
                  <a:moveTo>
                    <a:pt x="0" y="469"/>
                  </a:moveTo>
                  <a:lnTo>
                    <a:pt x="48" y="346"/>
                  </a:lnTo>
                  <a:lnTo>
                    <a:pt x="95" y="224"/>
                  </a:lnTo>
                  <a:lnTo>
                    <a:pt x="143" y="101"/>
                  </a:lnTo>
                  <a:lnTo>
                    <a:pt x="171" y="51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46080" y="4829040"/>
              <a:ext cx="311400" cy="482760"/>
            </a:xfrm>
            <a:custGeom>
              <a:avLst/>
              <a:gdLst/>
              <a:ahLst/>
              <a:rect l="l" t="t" r="r" b="b"/>
              <a:pathLst>
                <a:path w="192" h="281">
                  <a:moveTo>
                    <a:pt x="0" y="281"/>
                  </a:moveTo>
                  <a:lnTo>
                    <a:pt x="48" y="195"/>
                  </a:lnTo>
                  <a:lnTo>
                    <a:pt x="96" y="123"/>
                  </a:lnTo>
                  <a:lnTo>
                    <a:pt x="144" y="58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7480" y="4532400"/>
              <a:ext cx="312480" cy="296640"/>
            </a:xfrm>
            <a:custGeom>
              <a:avLst/>
              <a:gdLst/>
              <a:ahLst/>
              <a:rect l="l" t="t" r="r" b="b"/>
              <a:pathLst>
                <a:path w="192" h="173">
                  <a:moveTo>
                    <a:pt x="0" y="173"/>
                  </a:moveTo>
                  <a:lnTo>
                    <a:pt x="48" y="123"/>
                  </a:lnTo>
                  <a:lnTo>
                    <a:pt x="96" y="72"/>
                  </a:lnTo>
                  <a:lnTo>
                    <a:pt x="144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69960" y="4359240"/>
              <a:ext cx="311400" cy="173160"/>
            </a:xfrm>
            <a:custGeom>
              <a:avLst/>
              <a:gdLst/>
              <a:ahLst/>
              <a:rect l="l" t="t" r="r" b="b"/>
              <a:pathLst>
                <a:path w="192" h="101">
                  <a:moveTo>
                    <a:pt x="0" y="101"/>
                  </a:moveTo>
                  <a:lnTo>
                    <a:pt x="48" y="73"/>
                  </a:lnTo>
                  <a:lnTo>
                    <a:pt x="96" y="4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81360" y="4249800"/>
              <a:ext cx="311040" cy="109440"/>
            </a:xfrm>
            <a:custGeom>
              <a:avLst/>
              <a:gdLst/>
              <a:ahLst/>
              <a:rect l="l" t="t" r="r" b="b"/>
              <a:pathLst>
                <a:path w="191" h="64">
                  <a:moveTo>
                    <a:pt x="0" y="64"/>
                  </a:moveTo>
                  <a:lnTo>
                    <a:pt x="95" y="28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92400" y="4187880"/>
              <a:ext cx="311040" cy="6192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0" y="36"/>
                  </a:moveTo>
                  <a:lnTo>
                    <a:pt x="96" y="1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503440" y="4149720"/>
              <a:ext cx="3128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816280" y="4125960"/>
              <a:ext cx="3110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127320" y="4111560"/>
              <a:ext cx="311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3438360" y="4100040"/>
              <a:ext cx="3114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35040" y="5881680"/>
              <a:ext cx="311040" cy="23508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0" y="137"/>
                  </a:moveTo>
                  <a:lnTo>
                    <a:pt x="95" y="65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946080" y="5670720"/>
              <a:ext cx="31140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257480" y="5484960"/>
              <a:ext cx="31248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69960" y="5311800"/>
              <a:ext cx="311400" cy="173160"/>
            </a:xfrm>
            <a:custGeom>
              <a:avLst/>
              <a:gdLst/>
              <a:ahLst/>
              <a:rect l="l" t="t" r="r" b="b"/>
              <a:pathLst>
                <a:path w="192" h="101">
                  <a:moveTo>
                    <a:pt x="0" y="101"/>
                  </a:moveTo>
                  <a:lnTo>
                    <a:pt x="96" y="51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81360" y="5175360"/>
              <a:ext cx="311040" cy="1364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95" y="36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92400" y="5040360"/>
              <a:ext cx="311040" cy="1350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79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2503440" y="4928760"/>
              <a:ext cx="31284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2816280" y="4829040"/>
              <a:ext cx="3110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127320" y="4743360"/>
              <a:ext cx="3110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3438360" y="4669920"/>
              <a:ext cx="3114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79520" y="60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7280" y="561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7280" y="5213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7280" y="481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80" y="4408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9520" y="400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7280" y="3594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192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2580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4788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7176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9420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82800" y="622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06680" y="622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24800" y="64864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6200000">
              <a:off x="50760" y="48186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28880" y="4206960"/>
              <a:ext cx="7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T =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28880" y="5030640"/>
              <a:ext cx="7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T = 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00160" y="3584520"/>
            <a:ext cx="3787560" cy="2882880"/>
            <a:chOff x="200160" y="3584520"/>
            <a:chExt cx="3787560" cy="2882880"/>
          </a:xfrm>
        </p:grpSpPr>
        <p:sp>
          <p:nvSpPr>
            <p:cNvPr id="59" name=""/>
            <p:cNvSpPr/>
            <p:nvPr/>
          </p:nvSpPr>
          <p:spPr>
            <a:xfrm>
              <a:off x="200160" y="3584520"/>
              <a:ext cx="3787560" cy="288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51577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6"/>
              <a:endCxn id="63" idx="1"/>
            </p:cNvCxnSpPr>
            <p:nvPr/>
          </p:nvCxnSpPr>
          <p:spPr>
            <a:xfrm flipV="1">
              <a:off x="1482480" y="4268520"/>
              <a:ext cx="572040" cy="899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" name=""/>
            <p:cNvSpPr/>
            <p:nvPr/>
          </p:nvSpPr>
          <p:spPr>
            <a:xfrm>
              <a:off x="2054160" y="5999040"/>
              <a:ext cx="1191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62" idx="6"/>
              <a:endCxn id="64" idx="1"/>
            </p:cNvCxnSpPr>
            <p:nvPr/>
          </p:nvCxnSpPr>
          <p:spPr>
            <a:xfrm>
              <a:off x="1482480" y="5167440"/>
              <a:ext cx="572040" cy="90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3" name=""/>
            <p:cNvSpPr/>
            <p:nvPr/>
          </p:nvSpPr>
          <p:spPr>
            <a:xfrm>
              <a:off x="2054160" y="4200480"/>
              <a:ext cx="11592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3" idx="1"/>
              <a:endCxn id="67" idx="1"/>
            </p:cNvCxnSpPr>
            <p:nvPr/>
          </p:nvCxnSpPr>
          <p:spPr>
            <a:xfrm>
              <a:off x="2053800" y="4268520"/>
              <a:ext cx="123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4" idx="1"/>
              <a:endCxn id="69" idx="1"/>
            </p:cNvCxnSpPr>
            <p:nvPr/>
          </p:nvCxnSpPr>
          <p:spPr>
            <a:xfrm flipV="1">
              <a:off x="2053800" y="6067080"/>
              <a:ext cx="12344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>
              <a:off x="2259000" y="3906720"/>
              <a:ext cx="16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9000" y="5764320"/>
              <a:ext cx="124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87880" y="5997600"/>
              <a:ext cx="11880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87880" y="4200480"/>
              <a:ext cx="11880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2" idx="6"/>
              <a:endCxn id="73" idx="1"/>
            </p:cNvCxnSpPr>
            <p:nvPr/>
          </p:nvCxnSpPr>
          <p:spPr>
            <a:xfrm>
              <a:off x="1482840" y="5167080"/>
              <a:ext cx="180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3287880" y="5097600"/>
              <a:ext cx="11880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16160" y="5084640"/>
              <a:ext cx="1666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9000" y="484812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 Sal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3397320"/>
            <a:ext cx="4564080" cy="1805040"/>
            <a:chOff x="0" y="3397320"/>
            <a:chExt cx="4564080" cy="1805040"/>
          </a:xfrm>
        </p:grpSpPr>
        <p:sp>
          <p:nvSpPr>
            <p:cNvPr id="76" name=""/>
            <p:cNvSpPr/>
            <p:nvPr/>
          </p:nvSpPr>
          <p:spPr>
            <a:xfrm>
              <a:off x="0" y="3397320"/>
              <a:ext cx="4564080" cy="180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9000" y="4264200"/>
              <a:ext cx="230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3246480" y="4179600"/>
              <a:ext cx="228600" cy="168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32000" y="1776240"/>
            <a:ext cx="4419720" cy="3240360"/>
            <a:chOff x="2232000" y="1776240"/>
            <a:chExt cx="4419720" cy="3240360"/>
          </a:xfrm>
        </p:grpSpPr>
        <p:sp>
          <p:nvSpPr>
            <p:cNvPr id="80" name=""/>
            <p:cNvSpPr/>
            <p:nvPr/>
          </p:nvSpPr>
          <p:spPr>
            <a:xfrm>
              <a:off x="2232000" y="1776240"/>
              <a:ext cx="441972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68560" y="2608200"/>
              <a:ext cx="5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49840" y="3836880"/>
              <a:ext cx="102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4808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97360" y="3432240"/>
              <a:ext cx="45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3"/>
              <a:endCxn id="86" idx="1"/>
            </p:cNvCxnSpPr>
            <p:nvPr/>
          </p:nvCxnSpPr>
          <p:spPr>
            <a:xfrm flipV="1">
              <a:off x="3530160" y="2819160"/>
              <a:ext cx="37404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3898800" y="399420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3"/>
              <a:endCxn id="87" idx="1"/>
            </p:cNvCxnSpPr>
            <p:nvPr/>
          </p:nvCxnSpPr>
          <p:spPr>
            <a:xfrm>
              <a:off x="3530160" y="3433320"/>
              <a:ext cx="3690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6" name=""/>
            <p:cNvSpPr/>
            <p:nvPr/>
          </p:nvSpPr>
          <p:spPr>
            <a:xfrm>
              <a:off x="3903840" y="2771640"/>
              <a:ext cx="727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6" idx="1"/>
              <a:endCxn id="90" idx="2"/>
            </p:cNvCxnSpPr>
            <p:nvPr/>
          </p:nvCxnSpPr>
          <p:spPr>
            <a:xfrm flipV="1">
              <a:off x="3903840" y="2817000"/>
              <a:ext cx="5054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408560" y="39909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87" idx="1"/>
              <a:endCxn id="93" idx="0"/>
            </p:cNvCxnSpPr>
            <p:nvPr/>
          </p:nvCxnSpPr>
          <p:spPr>
            <a:xfrm flipV="1">
              <a:off x="3898440" y="4039920"/>
              <a:ext cx="138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3857760" y="279072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67120" y="4076640"/>
              <a:ext cx="78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96396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5266440" y="39960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3800" y="4624560"/>
              <a:ext cx="74520" cy="7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29040" y="314496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29040" y="239076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8560" y="27637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0" idx="7"/>
              <a:endCxn id="104" idx="1"/>
            </p:cNvCxnSpPr>
            <p:nvPr/>
          </p:nvCxnSpPr>
          <p:spPr>
            <a:xfrm flipV="1">
              <a:off x="4498560" y="2437920"/>
              <a:ext cx="330840" cy="342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stCxn id="90" idx="5"/>
              <a:endCxn id="103" idx="1"/>
            </p:cNvCxnSpPr>
            <p:nvPr/>
          </p:nvCxnSpPr>
          <p:spPr>
            <a:xfrm>
              <a:off x="4498560" y="2855520"/>
              <a:ext cx="330840" cy="337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4" idx="1"/>
            </p:cNvCxnSpPr>
            <p:nvPr/>
          </p:nvCxnSpPr>
          <p:spPr>
            <a:xfrm>
              <a:off x="4828680" y="2437920"/>
              <a:ext cx="459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3" idx="1"/>
              <a:endCxn id="109" idx="0"/>
            </p:cNvCxnSpPr>
            <p:nvPr/>
          </p:nvCxnSpPr>
          <p:spPr>
            <a:xfrm>
              <a:off x="4829040" y="3192120"/>
              <a:ext cx="465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 rot="16200000">
              <a:off x="5271120" y="23958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2960" y="2244600"/>
              <a:ext cx="94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2040" y="3017880"/>
              <a:ext cx="6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960" y="234792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3960" y="307512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280840" y="31482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4480" y="234936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94480" y="307008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94480" y="392760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0120" y="968400"/>
            <a:ext cx="7093080" cy="445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32440" y="167004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5240" y="31957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6360" y="36115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49480" y="281160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401652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6200" y="379584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383544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2200" y="3198960"/>
            <a:ext cx="106560" cy="10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52800" y="442764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4" idx="3"/>
            <a:endCxn id="127" idx="1"/>
          </p:cNvCxnSpPr>
          <p:nvPr/>
        </p:nvCxnSpPr>
        <p:spPr>
          <a:xfrm>
            <a:off x="1898640" y="3838680"/>
            <a:ext cx="254880" cy="63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2157480" y="320508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1"/>
            <a:endCxn id="126" idx="2"/>
          </p:cNvCxnSpPr>
          <p:nvPr/>
        </p:nvCxnSpPr>
        <p:spPr>
          <a:xfrm>
            <a:off x="2157480" y="3252600"/>
            <a:ext cx="5054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662200" y="442440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1"/>
            <a:endCxn id="133" idx="0"/>
          </p:cNvCxnSpPr>
          <p:nvPr/>
        </p:nvCxnSpPr>
        <p:spPr>
          <a:xfrm>
            <a:off x="2152800" y="4474800"/>
            <a:ext cx="4472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6" idx="7"/>
            <a:endCxn id="122" idx="1"/>
          </p:cNvCxnSpPr>
          <p:nvPr/>
        </p:nvCxnSpPr>
        <p:spPr>
          <a:xfrm flipV="1">
            <a:off x="2752200" y="2858760"/>
            <a:ext cx="197640" cy="356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26" idx="5"/>
            <a:endCxn id="123" idx="1"/>
          </p:cNvCxnSpPr>
          <p:nvPr/>
        </p:nvCxnSpPr>
        <p:spPr>
          <a:xfrm>
            <a:off x="2752200" y="3290760"/>
            <a:ext cx="213480" cy="77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2" idx="1"/>
            <a:endCxn id="137" idx="1"/>
          </p:cNvCxnSpPr>
          <p:nvPr/>
        </p:nvCxnSpPr>
        <p:spPr>
          <a:xfrm>
            <a:off x="2949480" y="2858760"/>
            <a:ext cx="597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1"/>
            <a:endCxn id="139" idx="0"/>
          </p:cNvCxnSpPr>
          <p:nvPr/>
        </p:nvCxnSpPr>
        <p:spPr>
          <a:xfrm>
            <a:off x="2964960" y="4063680"/>
            <a:ext cx="3660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41" idx="1"/>
          </p:cNvCxnSpPr>
          <p:nvPr/>
        </p:nvCxnSpPr>
        <p:spPr>
          <a:xfrm flipV="1">
            <a:off x="3629160" y="2566440"/>
            <a:ext cx="126000" cy="292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3"/>
            <a:endCxn id="121" idx="1"/>
          </p:cNvCxnSpPr>
          <p:nvPr/>
        </p:nvCxnSpPr>
        <p:spPr>
          <a:xfrm>
            <a:off x="3629160" y="2859120"/>
            <a:ext cx="187920" cy="800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1"/>
            <a:endCxn id="144" idx="2"/>
          </p:cNvCxnSpPr>
          <p:nvPr/>
        </p:nvCxnSpPr>
        <p:spPr>
          <a:xfrm flipV="1">
            <a:off x="3754080" y="2564640"/>
            <a:ext cx="500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21" idx="1"/>
            <a:endCxn id="146" idx="0"/>
          </p:cNvCxnSpPr>
          <p:nvPr/>
        </p:nvCxnSpPr>
        <p:spPr>
          <a:xfrm>
            <a:off x="3816000" y="3658680"/>
            <a:ext cx="280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754440" y="251928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611040" y="31989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611040" y="3615480"/>
            <a:ext cx="11448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76320" y="3435480"/>
            <a:ext cx="10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17720" y="4113360"/>
            <a:ext cx="10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inv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82960" y="300204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$ 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17680" y="42386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82800" y="2460600"/>
            <a:ext cx="9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&amp;D Su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51160" y="384192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0800" y="3422520"/>
            <a:ext cx="15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4640" y="15987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$2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8160" y="215280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2960" y="491184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78000" y="48308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0" y="4906800"/>
            <a:ext cx="10656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9360" y="483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739400" y="491184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06800" y="48322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6360" y="2816280"/>
            <a:ext cx="82800" cy="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4480" y="251136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11040" y="443088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6611040" y="40197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06920" y="217188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y for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4" idx="7"/>
            <a:endCxn id="165" idx="0"/>
          </p:cNvCxnSpPr>
          <p:nvPr/>
        </p:nvCxnSpPr>
        <p:spPr>
          <a:xfrm flipV="1">
            <a:off x="4346280" y="2276640"/>
            <a:ext cx="183240" cy="250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5" idx="0"/>
            <a:endCxn id="167" idx="1"/>
          </p:cNvCxnSpPr>
          <p:nvPr/>
        </p:nvCxnSpPr>
        <p:spPr>
          <a:xfrm flipV="1">
            <a:off x="4528800" y="2274120"/>
            <a:ext cx="446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491000" y="227664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4" idx="5"/>
            <a:endCxn id="120" idx="1"/>
          </p:cNvCxnSpPr>
          <p:nvPr/>
        </p:nvCxnSpPr>
        <p:spPr>
          <a:xfrm>
            <a:off x="4346280" y="2603160"/>
            <a:ext cx="229320" cy="64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20" idx="1"/>
            <a:endCxn id="147" idx="0"/>
          </p:cNvCxnSpPr>
          <p:nvPr/>
        </p:nvCxnSpPr>
        <p:spPr>
          <a:xfrm>
            <a:off x="4574880" y="3242880"/>
            <a:ext cx="205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802040" y="301788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Gr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1000" y="1884240"/>
            <a:ext cx="77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ent Gr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7" idx="3"/>
            <a:endCxn id="173" idx="0"/>
          </p:cNvCxnSpPr>
          <p:nvPr/>
        </p:nvCxnSpPr>
        <p:spPr>
          <a:xfrm flipV="1">
            <a:off x="5057280" y="1990440"/>
            <a:ext cx="164520" cy="284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3" idx="0"/>
            <a:endCxn id="175" idx="2"/>
          </p:cNvCxnSpPr>
          <p:nvPr/>
        </p:nvCxnSpPr>
        <p:spPr>
          <a:xfrm>
            <a:off x="5221440" y="1990800"/>
            <a:ext cx="4435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183280" y="199080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5200" y="2232000"/>
            <a:ext cx="82440" cy="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56280" y="1581120"/>
            <a:ext cx="77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78" idx="1"/>
          </p:cNvCxnSpPr>
          <p:nvPr/>
        </p:nvCxnSpPr>
        <p:spPr>
          <a:xfrm>
            <a:off x="5057280" y="2274840"/>
            <a:ext cx="158040" cy="47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8" idx="1"/>
            <a:endCxn id="180" idx="0"/>
          </p:cNvCxnSpPr>
          <p:nvPr/>
        </p:nvCxnSpPr>
        <p:spPr>
          <a:xfrm>
            <a:off x="5214960" y="2746080"/>
            <a:ext cx="1410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214960" y="269892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0400" y="252108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64240" y="193824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5" idx="7"/>
            <a:endCxn id="119" idx="1"/>
          </p:cNvCxnSpPr>
          <p:nvPr/>
        </p:nvCxnSpPr>
        <p:spPr>
          <a:xfrm flipV="1">
            <a:off x="5756040" y="1716840"/>
            <a:ext cx="176760" cy="237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19" idx="1"/>
            <a:endCxn id="184" idx="0"/>
          </p:cNvCxnSpPr>
          <p:nvPr/>
        </p:nvCxnSpPr>
        <p:spPr>
          <a:xfrm>
            <a:off x="5932080" y="1717200"/>
            <a:ext cx="693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5" idx="5"/>
            <a:endCxn id="186" idx="1"/>
          </p:cNvCxnSpPr>
          <p:nvPr/>
        </p:nvCxnSpPr>
        <p:spPr>
          <a:xfrm>
            <a:off x="5756040" y="2030400"/>
            <a:ext cx="17028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6" idx="1"/>
            <a:endCxn id="188" idx="0"/>
          </p:cNvCxnSpPr>
          <p:nvPr/>
        </p:nvCxnSpPr>
        <p:spPr>
          <a:xfrm>
            <a:off x="5925600" y="2269800"/>
            <a:ext cx="699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5925960" y="2222640"/>
            <a:ext cx="7488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611040" y="27021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611040" y="222588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6611040" y="1674000"/>
            <a:ext cx="11448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146988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2160" y="1996920"/>
            <a:ext cx="83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8160" y="262908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$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127320"/>
            <a:ext cx="84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53700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9481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3592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 $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24" idx="3"/>
            <a:endCxn id="129" idx="1"/>
          </p:cNvCxnSpPr>
          <p:nvPr/>
        </p:nvCxnSpPr>
        <p:spPr>
          <a:xfrm flipV="1">
            <a:off x="1898280" y="3252240"/>
            <a:ext cx="259560" cy="586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44640" y="1827360"/>
            <a:ext cx="4419720" cy="3240000"/>
            <a:chOff x="1844640" y="1827360"/>
            <a:chExt cx="4419720" cy="3240000"/>
          </a:xfrm>
        </p:grpSpPr>
        <p:sp>
          <p:nvSpPr>
            <p:cNvPr id="198" name=""/>
            <p:cNvSpPr/>
            <p:nvPr/>
          </p:nvSpPr>
          <p:spPr>
            <a:xfrm>
              <a:off x="1844640" y="1827360"/>
              <a:ext cx="44197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486240"/>
              <a:ext cx="67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201" idx="6"/>
              <a:endCxn id="202" idx="1"/>
            </p:cNvCxnSpPr>
            <p:nvPr/>
          </p:nvCxnSpPr>
          <p:spPr>
            <a:xfrm flipV="1">
              <a:off x="3395160" y="2544120"/>
              <a:ext cx="54396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3930480" y="4319640"/>
              <a:ext cx="1130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6"/>
              <a:endCxn id="203" idx="1"/>
            </p:cNvCxnSpPr>
            <p:nvPr/>
          </p:nvCxnSpPr>
          <p:spPr>
            <a:xfrm>
              <a:off x="3395520" y="3487320"/>
              <a:ext cx="535680" cy="90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3938760" y="2475000"/>
              <a:ext cx="10944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2" idx="1"/>
              <a:endCxn id="206" idx="1"/>
            </p:cNvCxnSpPr>
            <p:nvPr/>
          </p:nvCxnSpPr>
          <p:spPr>
            <a:xfrm>
              <a:off x="3938400" y="2544840"/>
              <a:ext cx="1377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7" name=""/>
            <p:cNvSpPr/>
            <p:nvPr/>
          </p:nvSpPr>
          <p:spPr>
            <a:xfrm>
              <a:off x="4695840" y="4314960"/>
              <a:ext cx="111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3" idx="1"/>
              <a:endCxn id="209" idx="2"/>
            </p:cNvCxnSpPr>
            <p:nvPr/>
          </p:nvCxnSpPr>
          <p:spPr>
            <a:xfrm>
              <a:off x="3930120" y="4390920"/>
              <a:ext cx="1442520" cy="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0" name=""/>
            <p:cNvSpPr/>
            <p:nvPr/>
          </p:nvSpPr>
          <p:spPr>
            <a:xfrm>
              <a:off x="3929040" y="2298600"/>
              <a:ext cx="15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8760" y="4149720"/>
              <a:ext cx="16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 p = 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5040" y="4254480"/>
              <a:ext cx="1108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5040" y="2476440"/>
              <a:ext cx="1108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201" idx="6"/>
              <a:endCxn id="213" idx="1"/>
            </p:cNvCxnSpPr>
            <p:nvPr/>
          </p:nvCxnSpPr>
          <p:spPr>
            <a:xfrm>
              <a:off x="3395520" y="3487320"/>
              <a:ext cx="1920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4" name=""/>
            <p:cNvSpPr/>
            <p:nvPr/>
          </p:nvSpPr>
          <p:spPr>
            <a:xfrm>
              <a:off x="4105440" y="3419640"/>
              <a:ext cx="1094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040" y="3416400"/>
              <a:ext cx="1108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38560" y="3409920"/>
              <a:ext cx="156960" cy="154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90880" y="324180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 Sales p = 0.6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628640" y="1871640"/>
            <a:ext cx="4486320" cy="3240000"/>
            <a:chOff x="1628640" y="1871640"/>
            <a:chExt cx="4486320" cy="3240000"/>
          </a:xfrm>
        </p:grpSpPr>
        <p:sp>
          <p:nvSpPr>
            <p:cNvPr id="217" name=""/>
            <p:cNvSpPr/>
            <p:nvPr/>
          </p:nvSpPr>
          <p:spPr>
            <a:xfrm>
              <a:off x="1628640" y="1871640"/>
              <a:ext cx="44863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9" idx="6"/>
              <a:endCxn id="220" idx="1"/>
            </p:cNvCxnSpPr>
            <p:nvPr/>
          </p:nvCxnSpPr>
          <p:spPr>
            <a:xfrm flipV="1">
              <a:off x="4076280" y="2293560"/>
              <a:ext cx="359640" cy="61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1" name=""/>
            <p:cNvSpPr/>
            <p:nvPr/>
          </p:nvSpPr>
          <p:spPr>
            <a:xfrm>
              <a:off x="4430880" y="3454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9" idx="6"/>
              <a:endCxn id="221" idx="1"/>
            </p:cNvCxnSpPr>
            <p:nvPr/>
          </p:nvCxnSpPr>
          <p:spPr>
            <a:xfrm>
              <a:off x="4076640" y="2906640"/>
              <a:ext cx="354960" cy="596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4435560" y="224640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0" idx="1"/>
              <a:endCxn id="224" idx="1"/>
            </p:cNvCxnSpPr>
            <p:nvPr/>
          </p:nvCxnSpPr>
          <p:spPr>
            <a:xfrm>
              <a:off x="4435560" y="2293560"/>
              <a:ext cx="1194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25" name=""/>
            <p:cNvCxnSpPr>
              <a:stCxn id="221" idx="1"/>
              <a:endCxn id="226" idx="1"/>
            </p:cNvCxnSpPr>
            <p:nvPr/>
          </p:nvCxnSpPr>
          <p:spPr>
            <a:xfrm>
              <a:off x="4430520" y="3501720"/>
              <a:ext cx="1199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7" name=""/>
            <p:cNvSpPr/>
            <p:nvPr/>
          </p:nvSpPr>
          <p:spPr>
            <a:xfrm>
              <a:off x="4530600" y="2075040"/>
              <a:ext cx="102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40320" y="3294000"/>
              <a:ext cx="102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w Sales p = 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9320" y="3454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9320" y="22464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19" idx="6"/>
              <a:endCxn id="230" idx="1"/>
            </p:cNvCxnSpPr>
            <p:nvPr/>
          </p:nvCxnSpPr>
          <p:spPr>
            <a:xfrm>
              <a:off x="4076280" y="2906280"/>
              <a:ext cx="15534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629320" y="2860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8640" y="28526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0600" y="2687760"/>
              <a:ext cx="135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Sales p = 0.6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33" idx="6"/>
              <a:endCxn id="234" idx="1"/>
            </p:cNvCxnSpPr>
            <p:nvPr/>
          </p:nvCxnSpPr>
          <p:spPr>
            <a:xfrm flipV="1">
              <a:off x="2332080" y="2908080"/>
              <a:ext cx="358920" cy="622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2685960" y="4081320"/>
              <a:ext cx="7488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3" idx="6"/>
              <a:endCxn id="235" idx="1"/>
            </p:cNvCxnSpPr>
            <p:nvPr/>
          </p:nvCxnSpPr>
          <p:spPr>
            <a:xfrm>
              <a:off x="2331720" y="3530160"/>
              <a:ext cx="354600" cy="59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2690640" y="286056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4" idx="1"/>
              <a:endCxn id="219" idx="2"/>
            </p:cNvCxnSpPr>
            <p:nvPr/>
          </p:nvCxnSpPr>
          <p:spPr>
            <a:xfrm flipV="1">
              <a:off x="2690640" y="2905920"/>
              <a:ext cx="1278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5" idx="1"/>
              <a:endCxn id="239" idx="1"/>
            </p:cNvCxnSpPr>
            <p:nvPr/>
          </p:nvCxnSpPr>
          <p:spPr>
            <a:xfrm flipV="1">
              <a:off x="2685960" y="4126680"/>
              <a:ext cx="9230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2633760" y="2673360"/>
              <a:ext cx="102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3760" y="3940200"/>
              <a:ext cx="798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08280" y="40798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33" idx="6"/>
              <a:endCxn id="243" idx="1"/>
            </p:cNvCxnSpPr>
            <p:nvPr/>
          </p:nvCxnSpPr>
          <p:spPr>
            <a:xfrm>
              <a:off x="2331720" y="3530160"/>
              <a:ext cx="1276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3608280" y="34830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24080" y="347652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3760" y="3314880"/>
              <a:ext cx="83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12960" y="35323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9840" y="4438800"/>
              <a:ext cx="3173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048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0536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7856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36680" y="455148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1280" y="454824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7080" y="454824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527200" y="1855800"/>
            <a:ext cx="4419720" cy="3240000"/>
            <a:chOff x="2527200" y="1855800"/>
            <a:chExt cx="4419720" cy="3240000"/>
          </a:xfrm>
        </p:grpSpPr>
        <p:sp>
          <p:nvSpPr>
            <p:cNvPr id="254" name=""/>
            <p:cNvSpPr/>
            <p:nvPr/>
          </p:nvSpPr>
          <p:spPr>
            <a:xfrm>
              <a:off x="2527200" y="1855800"/>
              <a:ext cx="44197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98800" y="39942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3840" y="2771640"/>
              <a:ext cx="727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7200" y="31258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29040" y="23716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68560" y="2570040"/>
              <a:ext cx="66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49840" y="378936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4808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97360" y="3432240"/>
              <a:ext cx="45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94320" y="27655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1" idx="3"/>
              <a:endCxn id="256" idx="1"/>
            </p:cNvCxnSpPr>
            <p:nvPr/>
          </p:nvCxnSpPr>
          <p:spPr>
            <a:xfrm flipV="1">
              <a:off x="3530160" y="2819160"/>
              <a:ext cx="37404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61" idx="3"/>
              <a:endCxn id="255" idx="1"/>
            </p:cNvCxnSpPr>
            <p:nvPr/>
          </p:nvCxnSpPr>
          <p:spPr>
            <a:xfrm>
              <a:off x="3530160" y="3433320"/>
              <a:ext cx="3690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6" idx="1"/>
              <a:endCxn id="263" idx="2"/>
            </p:cNvCxnSpPr>
            <p:nvPr/>
          </p:nvCxnSpPr>
          <p:spPr>
            <a:xfrm>
              <a:off x="3903840" y="2819160"/>
              <a:ext cx="691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7" name=""/>
            <p:cNvCxnSpPr>
              <a:stCxn id="255" idx="1"/>
              <a:endCxn id="268" idx="0"/>
            </p:cNvCxnSpPr>
            <p:nvPr/>
          </p:nvCxnSpPr>
          <p:spPr>
            <a:xfrm flipV="1">
              <a:off x="3898440" y="4039920"/>
              <a:ext cx="1577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9" name=""/>
            <p:cNvCxnSpPr>
              <a:stCxn id="263" idx="7"/>
              <a:endCxn id="258" idx="1"/>
            </p:cNvCxnSpPr>
            <p:nvPr/>
          </p:nvCxnSpPr>
          <p:spPr>
            <a:xfrm flipV="1">
              <a:off x="4684320" y="2419200"/>
              <a:ext cx="144720" cy="36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0" name=""/>
            <p:cNvCxnSpPr>
              <a:stCxn id="263" idx="5"/>
              <a:endCxn id="257" idx="1"/>
            </p:cNvCxnSpPr>
            <p:nvPr/>
          </p:nvCxnSpPr>
          <p:spPr>
            <a:xfrm>
              <a:off x="4684320" y="2857320"/>
              <a:ext cx="183240" cy="31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58" idx="1"/>
              <a:endCxn id="272" idx="0"/>
            </p:cNvCxnSpPr>
            <p:nvPr/>
          </p:nvCxnSpPr>
          <p:spPr>
            <a:xfrm>
              <a:off x="4828680" y="2418840"/>
              <a:ext cx="6469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57" idx="1"/>
              <a:endCxn id="274" idx="0"/>
            </p:cNvCxnSpPr>
            <p:nvPr/>
          </p:nvCxnSpPr>
          <p:spPr>
            <a:xfrm>
              <a:off x="4866840" y="3173040"/>
              <a:ext cx="608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72" name=""/>
            <p:cNvSpPr/>
            <p:nvPr/>
          </p:nvSpPr>
          <p:spPr>
            <a:xfrm rot="16200000">
              <a:off x="5461920" y="23770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4760" y="2820960"/>
              <a:ext cx="87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67120" y="404820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30840" y="2178000"/>
              <a:ext cx="5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9000" y="2922480"/>
              <a:ext cx="61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4680" y="232884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84680" y="305604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4680" y="39466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5461920" y="31294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5461920" y="399636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33800" y="4624560"/>
              <a:ext cx="7452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75200" y="2330280"/>
              <a:ext cx="8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5200" y="3051000"/>
              <a:ext cx="85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5200" y="3944880"/>
              <a:ext cx="57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00600" y="31687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600" y="241776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2421000" y="1819440"/>
            <a:ext cx="4600440" cy="3240000"/>
            <a:chOff x="2421000" y="1819440"/>
            <a:chExt cx="4600440" cy="3240000"/>
          </a:xfrm>
        </p:grpSpPr>
        <p:sp>
          <p:nvSpPr>
            <p:cNvPr id="294" name=""/>
            <p:cNvSpPr/>
            <p:nvPr/>
          </p:nvSpPr>
          <p:spPr>
            <a:xfrm>
              <a:off x="2421000" y="1819440"/>
              <a:ext cx="460044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9480" y="39942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94160" y="274788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29040" y="31258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29040" y="23716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89480" y="2567160"/>
              <a:ext cx="103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 V = 0.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89480" y="379728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1940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8680" y="343224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08560" y="2741760"/>
              <a:ext cx="10620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1" idx="3"/>
              <a:endCxn id="296" idx="1"/>
            </p:cNvCxnSpPr>
            <p:nvPr/>
          </p:nvCxnSpPr>
          <p:spPr>
            <a:xfrm flipV="1">
              <a:off x="3201840" y="2795760"/>
              <a:ext cx="293040" cy="63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5" name=""/>
            <p:cNvCxnSpPr>
              <a:stCxn id="301" idx="3"/>
              <a:endCxn id="295" idx="1"/>
            </p:cNvCxnSpPr>
            <p:nvPr/>
          </p:nvCxnSpPr>
          <p:spPr>
            <a:xfrm>
              <a:off x="3201480" y="3433320"/>
              <a:ext cx="28836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6" name=""/>
            <p:cNvCxnSpPr>
              <a:stCxn id="296" idx="1"/>
              <a:endCxn id="303" idx="2"/>
            </p:cNvCxnSpPr>
            <p:nvPr/>
          </p:nvCxnSpPr>
          <p:spPr>
            <a:xfrm>
              <a:off x="3494160" y="279540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>
              <a:stCxn id="295" idx="1"/>
              <a:endCxn id="308" idx="0"/>
            </p:cNvCxnSpPr>
            <p:nvPr/>
          </p:nvCxnSpPr>
          <p:spPr>
            <a:xfrm flipV="1">
              <a:off x="3489480" y="4039920"/>
              <a:ext cx="23486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3" idx="7"/>
              <a:endCxn id="298" idx="1"/>
            </p:cNvCxnSpPr>
            <p:nvPr/>
          </p:nvCxnSpPr>
          <p:spPr>
            <a:xfrm flipV="1">
              <a:off x="4498560" y="2418840"/>
              <a:ext cx="330840" cy="339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303" idx="5"/>
              <a:endCxn id="297" idx="1"/>
            </p:cNvCxnSpPr>
            <p:nvPr/>
          </p:nvCxnSpPr>
          <p:spPr>
            <a:xfrm>
              <a:off x="4498560" y="2833560"/>
              <a:ext cx="330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298" idx="1"/>
              <a:endCxn id="312" idx="0"/>
            </p:cNvCxnSpPr>
            <p:nvPr/>
          </p:nvCxnSpPr>
          <p:spPr>
            <a:xfrm>
              <a:off x="4828680" y="2418840"/>
              <a:ext cx="1008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297" idx="1"/>
              <a:endCxn id="314" idx="0"/>
            </p:cNvCxnSpPr>
            <p:nvPr/>
          </p:nvCxnSpPr>
          <p:spPr>
            <a:xfrm>
              <a:off x="4828680" y="3173040"/>
              <a:ext cx="100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 rot="16200000">
              <a:off x="5823720" y="23767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89480" y="282564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89480" y="407664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82960" y="217332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ccess p = 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82960" y="2927520"/>
              <a:ext cx="11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ilure p = 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32440" y="23004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2440" y="304632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6840" y="39276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5823720" y="31291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5823720" y="39960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3800" y="4624560"/>
              <a:ext cx="8244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2960" y="230184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2960" y="3041640"/>
              <a:ext cx="75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3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37360" y="3925800"/>
              <a:ext cx="57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82960" y="24224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82960" y="3168720"/>
              <a:ext cx="57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7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68960" y="3181320"/>
              <a:ext cx="58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233880" y="3630240"/>
              <a:ext cx="1774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257640" y="3668400"/>
              <a:ext cx="1778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18040" y="3313080"/>
              <a:ext cx="23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29160" y="26971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38:40Z</dcterms:created>
  <dc:creator>Frank</dc:creator>
  <dc:description/>
  <dc:language>en-US</dc:language>
  <cp:lastModifiedBy>frank crundwell</cp:lastModifiedBy>
  <dcterms:modified xsi:type="dcterms:W3CDTF">2007-08-16T17:05:54Z</dcterms:modified>
  <cp:revision>25</cp:revision>
  <dc:subject/>
  <dc:title>PowerPoint Presentation</dc:title>
</cp:coreProperties>
</file>